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7480" y="3619080"/>
            <a:ext cx="82580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7480" y="361908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61908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2658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58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2160" y="1371600"/>
            <a:ext cx="2658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7480" y="3619080"/>
            <a:ext cx="2658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9080"/>
            <a:ext cx="2658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2160" y="3619080"/>
            <a:ext cx="2658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600" spc="-1" strike="noStrike">
              <a:solidFill>
                <a:srgbClr val="ffffff"/>
              </a:solidFill>
              <a:latin typeface="Credit Suisse Type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40298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0298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7840" y="529920"/>
            <a:ext cx="82389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600" spc="-1" strike="noStrike">
              <a:solidFill>
                <a:srgbClr val="ffffff"/>
              </a:solidFill>
              <a:latin typeface="Credit Suisse Type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0298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7480" y="361908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600" spc="-1" strike="noStrike">
              <a:solidFill>
                <a:srgbClr val="ffffff"/>
              </a:solidFill>
              <a:latin typeface="Credit Suisse Type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40298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61908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7480" y="3619080"/>
            <a:ext cx="82580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7480" y="3619080"/>
            <a:ext cx="82580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480" y="361908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61908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2658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58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2160" y="1371600"/>
            <a:ext cx="2658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7480" y="3619080"/>
            <a:ext cx="2658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19080"/>
            <a:ext cx="2658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2160" y="3619080"/>
            <a:ext cx="2658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40298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0298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7840" y="529920"/>
            <a:ext cx="82389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600" spc="-1" strike="noStrike">
              <a:solidFill>
                <a:srgbClr val="ffffff"/>
              </a:solidFill>
              <a:latin typeface="Credit Suisse Type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0298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7480" y="361908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40298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61908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371600"/>
            <a:ext cx="40298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7480" y="3619080"/>
            <a:ext cx="825804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600" spc="-1" strike="noStrike">
                <a:solidFill>
                  <a:srgbClr val="003868"/>
                </a:solidFill>
                <a:latin typeface="Credit Suisse Type Roman"/>
              </a:rPr>
              <a:t>Click to edit the title text format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200" spc="-1" strike="noStrike">
                <a:solidFill>
                  <a:srgbClr val="003868"/>
                </a:solidFill>
                <a:latin typeface="Credit Suisse Type Roman"/>
              </a:rPr>
              <a:t>Click to edit the outline text format</a:t>
            </a: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200" spc="-1" strike="noStrike">
                <a:solidFill>
                  <a:srgbClr val="003868"/>
                </a:solidFill>
                <a:latin typeface="Credit Suisse Type Roman"/>
              </a:rPr>
              <a:t>Second Outline Level</a:t>
            </a: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752400" indent="-245880">
              <a:lnSpc>
                <a:spcPct val="11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200" spc="-1" strike="noStrike">
                <a:solidFill>
                  <a:srgbClr val="003868"/>
                </a:solidFill>
                <a:latin typeface="Credit Suisse Type Roman"/>
              </a:rPr>
              <a:t>Third Outline Level</a:t>
            </a: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  <a:p>
            <a:pPr lvl="3" marL="990720" indent="-236520">
              <a:lnSpc>
                <a:spcPct val="110000"/>
              </a:lnSpc>
              <a:buClr>
                <a:srgbClr val="e3dfdb"/>
              </a:buClr>
              <a:buFont typeface="Wingdings" charset="2"/>
              <a:buChar char="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200" spc="-1" strike="noStrike">
                <a:solidFill>
                  <a:srgbClr val="003868"/>
                </a:solidFill>
                <a:latin typeface="Credit Suisse Type Roman"/>
              </a:rPr>
              <a:t>Fourth Outline Level</a:t>
            </a: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  <a:p>
            <a:pPr lvl="4" marL="1181160">
              <a:lnSpc>
                <a:spcPct val="110000"/>
              </a:lnSpc>
              <a:buClr>
                <a:srgbClr val="e3dfdb"/>
              </a:buClr>
              <a:buFont typeface="Wingdings" charset="2"/>
              <a:buChar char="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200" spc="-1" strike="noStrike">
                <a:solidFill>
                  <a:srgbClr val="003868"/>
                </a:solidFill>
                <a:latin typeface="Credit Suisse Type Roman"/>
              </a:rPr>
              <a:t>Fifth Outline Level</a:t>
            </a: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  <a:p>
            <a:pPr lvl="5" marL="1181160">
              <a:lnSpc>
                <a:spcPct val="110000"/>
              </a:lnSpc>
              <a:buClr>
                <a:srgbClr val="003868"/>
              </a:buClr>
              <a:buFont typeface="Wingdings" charset="2"/>
              <a:buChar char="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200" spc="-1" strike="noStrike">
                <a:solidFill>
                  <a:srgbClr val="003868"/>
                </a:solidFill>
                <a:latin typeface="Credit Suisse Type Roman"/>
              </a:rPr>
              <a:t>Sixth Outline Level</a:t>
            </a: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  <a:p>
            <a:pPr lvl="6" marL="1181160">
              <a:lnSpc>
                <a:spcPct val="110000"/>
              </a:lnSpc>
              <a:buClr>
                <a:srgbClr val="003868"/>
              </a:buClr>
              <a:buFont typeface="Wingdings" charset="2"/>
              <a:buChar char="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200" spc="-1" strike="noStrike">
                <a:solidFill>
                  <a:srgbClr val="003868"/>
                </a:solidFill>
                <a:latin typeface="Credit Suisse Type Roman"/>
              </a:rPr>
              <a:t>Seventh Outline Level</a:t>
            </a: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5760" y="6105600"/>
            <a:ext cx="8688240" cy="0"/>
          </a:xfrm>
          <a:prstGeom prst="line">
            <a:avLst/>
          </a:prstGeom>
          <a:ln w="63360">
            <a:solidFill>
              <a:srgbClr val="9d0e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962760" y="6324480"/>
            <a:ext cx="1752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868"/>
                </a:solidFill>
                <a:latin typeface="Credit Suisse Type Roman"/>
              </a:rPr>
              <a:t>Produced by: IL05 </a:t>
            </a:r>
            <a:endParaRPr b="0" lang="en-US" sz="900" spc="-1" strike="noStrike">
              <a:solidFill>
                <a:srgbClr val="003868"/>
              </a:solidFill>
              <a:latin typeface="Arial"/>
            </a:endParaRPr>
          </a:p>
          <a:p>
            <a:pPr algn="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3868"/>
                </a:solidFill>
                <a:latin typeface="Credit Suisse Type Roman"/>
              </a:rPr>
              <a:t>Date: </a:t>
            </a:r>
            <a:r>
              <a:rPr b="0" lang="en-GB" sz="900" spc="-1" strike="noStrike">
                <a:solidFill>
                  <a:srgbClr val="003868"/>
                </a:solidFill>
                <a:latin typeface="Credit Suisse Type Roman"/>
              </a:rPr>
              <a:t>&lt;date/time&gt;</a:t>
            </a:r>
            <a:r>
              <a:rPr b="0" lang="en-GB" sz="900" spc="-1" strike="noStrike">
                <a:solidFill>
                  <a:srgbClr val="003868"/>
                </a:solidFill>
                <a:latin typeface="Credit Suisse Type Roman"/>
              </a:rPr>
              <a:t> Slide </a:t>
            </a:r>
            <a:fld id="{45697251-0260-42D6-8DAE-31334B84AF09}" type="slidenum">
              <a:rPr b="0" lang="en-GB" sz="900" spc="-1" strike="noStrike">
                <a:solidFill>
                  <a:srgbClr val="003868"/>
                </a:solidFill>
                <a:latin typeface="Credit Suisse Type Roman"/>
              </a:rPr>
              <a:t>&lt;number&gt;</a:t>
            </a:fld>
            <a:endParaRPr b="0" lang="en-US" sz="900" spc="-1" strike="noStrike">
              <a:solidFill>
                <a:srgbClr val="003868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-9017"/>
          <a:stretch/>
        </p:blipFill>
        <p:spPr>
          <a:xfrm>
            <a:off x="449280" y="6227640"/>
            <a:ext cx="1619280" cy="3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47840" y="1371600"/>
            <a:ext cx="8696160" cy="449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62000" y="2790720"/>
            <a:ext cx="493380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redit Suisse Type Roman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Credit Suisse Type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5760" y="6105600"/>
            <a:ext cx="8688240" cy="0"/>
          </a:xfrm>
          <a:prstGeom prst="line">
            <a:avLst/>
          </a:prstGeom>
          <a:ln w="63360">
            <a:solidFill>
              <a:srgbClr val="9d0e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rcRect l="0" t="0" r="0" b="-9017"/>
          <a:stretch/>
        </p:blipFill>
        <p:spPr>
          <a:xfrm>
            <a:off x="469800" y="304920"/>
            <a:ext cx="2340000" cy="56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ts val="1800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redit Suisse Type Roman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Credit Suisse Type Roman"/>
            </a:endParaRPr>
          </a:p>
          <a:p>
            <a:pPr lvl="1" marL="3761280" indent="0" algn="ctr">
              <a:lnSpc>
                <a:spcPct val="110000"/>
              </a:lnSpc>
              <a:tabLst>
                <a:tab algn="l" pos="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1800" spc="-1" strike="noStrike">
                <a:solidFill>
                  <a:srgbClr val="003868"/>
                </a:solidFill>
                <a:latin typeface="Credit Suisse Type Roman"/>
              </a:rPr>
              <a:t>Second Outline Level</a:t>
            </a:r>
            <a:endParaRPr b="0" lang="en-US" sz="18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3762000" algn="ctr">
              <a:lnSpc>
                <a:spcPct val="11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1800" spc="-1" strike="noStrike">
                <a:solidFill>
                  <a:srgbClr val="003868"/>
                </a:solidFill>
                <a:latin typeface="Credit Suisse Type Roman"/>
              </a:rPr>
              <a:t>Third Outline Level</a:t>
            </a:r>
            <a:endParaRPr b="0" lang="en-US" sz="1800" spc="-1" strike="noStrike">
              <a:solidFill>
                <a:srgbClr val="003868"/>
              </a:solidFill>
              <a:latin typeface="Credit Suisse Type Roman"/>
            </a:endParaRPr>
          </a:p>
          <a:p>
            <a:pPr lvl="3" marL="3763080" algn="ctr">
              <a:spcBef>
                <a:spcPts val="499"/>
              </a:spcBef>
              <a:buClr>
                <a:srgbClr val="e3dfdb"/>
              </a:buClr>
              <a:buFont typeface="Wingdings" charset="2"/>
              <a:buChar char=""/>
              <a:tabLst>
                <a:tab algn="l" pos="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1600" spc="-1" strike="noStrike">
                <a:solidFill>
                  <a:srgbClr val="003868"/>
                </a:solidFill>
                <a:latin typeface="Credit Suisse Type Roman"/>
              </a:rPr>
              <a:t>Fourth Outline Level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lvl="4" marL="3763800" indent="195480" algn="ctr">
              <a:spcBef>
                <a:spcPts val="374"/>
              </a:spcBef>
              <a:buClr>
                <a:srgbClr val="e3dfdb"/>
              </a:buClr>
              <a:buFont typeface="Wingdings" charset="2"/>
              <a:buChar char=""/>
              <a:tabLst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1200" spc="-1" strike="noStrike">
                <a:solidFill>
                  <a:srgbClr val="003868"/>
                </a:solidFill>
                <a:latin typeface="Credit Suisse Type Roman"/>
              </a:rPr>
              <a:t>Fifth Outline Level</a:t>
            </a:r>
            <a:endParaRPr b="0" lang="en-US" sz="1200" spc="-1" strike="noStrike">
              <a:solidFill>
                <a:srgbClr val="003868"/>
              </a:solidFill>
              <a:latin typeface="Credit Suisse Type Roman"/>
            </a:endParaRPr>
          </a:p>
          <a:p>
            <a:pPr lvl="5" marL="3763800" indent="195480">
              <a:spcBef>
                <a:spcPts val="300"/>
              </a:spcBef>
              <a:buClr>
                <a:srgbClr val="003868"/>
              </a:buClr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8"/>
                </a:solidFill>
                <a:latin typeface="Credit Suisse Type Roman"/>
              </a:rPr>
              <a:t>Sixth Outline Level</a:t>
            </a:r>
            <a:endParaRPr b="0" lang="en-US" sz="1200" spc="-1" strike="noStrike">
              <a:solidFill>
                <a:srgbClr val="003868"/>
              </a:solidFill>
              <a:latin typeface="Credit Suisse Type Roman"/>
            </a:endParaRPr>
          </a:p>
          <a:p>
            <a:pPr lvl="6" marL="3763800" indent="195480">
              <a:spcBef>
                <a:spcPts val="300"/>
              </a:spcBef>
              <a:buClr>
                <a:srgbClr val="003868"/>
              </a:buClr>
              <a:buFont typeface="Wingdings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68"/>
                </a:solidFill>
                <a:latin typeface="Credit Suisse Type Roman"/>
              </a:rPr>
              <a:t>Seventh Outline Level</a:t>
            </a:r>
            <a:endParaRPr b="0" lang="en-US" sz="1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zzuerichsee.ch/" TargetMode="External"/><Relationship Id="rId2" Type="http://schemas.openxmlformats.org/officeDocument/2006/relationships/hyperlink" Target="http://www.bzzuerichsee.ch/" TargetMode="External"/><Relationship Id="rId3" Type="http://schemas.openxmlformats.org/officeDocument/2006/relationships/hyperlink" Target="http://www.bzzuerichsee.ch/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62000" y="2790720"/>
            <a:ext cx="493380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redit Suisse Type Roman"/>
              </a:rPr>
              <a:t>Präsentation Notizverwaltungssystem</a:t>
            </a:r>
            <a:endParaRPr b="0" lang="en-US" sz="2500" spc="-1" strike="noStrike">
              <a:solidFill>
                <a:srgbClr val="ffffff"/>
              </a:solidFill>
              <a:latin typeface="Credit Suisse Type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62000" y="3809880"/>
            <a:ext cx="49338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ffffff"/>
                </a:solidFill>
                <a:latin typeface="Credit Suisse Type Roman"/>
              </a:rPr>
              <a:t>Produced by:IL05</a:t>
            </a:r>
            <a:endParaRPr b="0" lang="en-US" sz="1600" spc="-1" strike="noStrike">
              <a:solidFill>
                <a:srgbClr val="ffffff"/>
              </a:solidFill>
              <a:latin typeface="Credit Suisse Type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9640" y="2706840"/>
            <a:ext cx="30481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Erwartungen der CS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Sich im Unterricht einbring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Angepasster Kleidungs-Stil trag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Selbständig sein </a:t>
            </a:r>
            <a:r>
              <a:rPr b="0" lang="de-CH" sz="2000" spc="-1" strike="noStrike">
                <a:solidFill>
                  <a:srgbClr val="003868"/>
                </a:solidFill>
                <a:latin typeface="Wingdings"/>
                <a:ea typeface="Wingdings"/>
              </a:rPr>
              <a:t>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 Aufgaben mach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Sich an die Richtlinien der Bank halt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//Bankgeheimnis und so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674200" cy="4535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762360" y="2790720"/>
            <a:ext cx="49338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699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redit Suisse Type Roman"/>
              </a:rPr>
              <a:t>Präsentation Notizverwaltungssystem</a:t>
            </a:r>
            <a:br>
              <a:rPr sz="2000"/>
            </a:br>
            <a:r>
              <a:rPr b="1" lang="en-US" sz="2500" spc="-1" strike="noStrike">
                <a:solidFill>
                  <a:srgbClr val="ffffff"/>
                </a:solidFill>
                <a:latin typeface="Credit Suisse Type Roman"/>
              </a:rPr>
              <a:t>Santis- Module</a:t>
            </a:r>
            <a:endParaRPr b="0" lang="en-US" sz="2500" spc="-1" strike="noStrike">
              <a:solidFill>
                <a:srgbClr val="0038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Modul A1 (neu G1)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Grundsätze des System Engineering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Unterschied prozeduraler und objektorientierter Ansatz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Klassendiagramme lesen, interpretier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Einfachen JavaCode programmier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Modul A2 (neu G2)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Entwicklungsmethode mit UML2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Vorgehen in einem CS-Projekt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Methoden und Vorgeh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Use-Case-Diagramm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Activity-Diagramm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Sequenz-Diagramm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Modul F1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Minifall Stufe 1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Vertiefung des Gelernten aus Modul A2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UML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Bedürfnis-Analyse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Design-Dokument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Modul B1 (neu S1)</a:t>
            </a:r>
            <a:br>
              <a:rPr sz="2600"/>
            </a:b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Modul S2 (ehemals B1b)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B1: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Theorie für den „Sun Certified Java Programmer“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S2: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Ablegen der Prüfung zum „Sun Certified Java Programmer“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Modul F2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Minifall Stufe 2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Grundlage ist das Modul F1 (UML)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Umsetzung von UML in Java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Vertiefung von UML und Java-Syntax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Stand-alone Applikation (Swing)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Modul C1 (J2EE)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Sicherheitsproblematik in verteilten Systemen kenn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Grundsätze Java Database Connectivity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Modul C2 (neu S3)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Refactoring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Zweite Möglichkeit zum Ablegen des SCJP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Modul F3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Minifall Stufe 3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Verteilte Applikation mit J2EE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Grundlage sind Minifall 1 und 2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en-US" sz="2600" spc="-1" strike="noStrike">
                <a:solidFill>
                  <a:srgbClr val="003868"/>
                </a:solidFill>
                <a:latin typeface="Credit Suisse Type Roman"/>
              </a:rPr>
              <a:t>Inhaltsverzeichnis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47480" y="1213920"/>
            <a:ext cx="8258040" cy="43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9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Begrüssung/ Moderation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Grenacher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9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Ziel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9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Lehre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Grötsch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9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Einsatz, Schule, Santis, Modulaufbau, LAP, IPA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9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Santis- Module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Traber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9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Projekt Notizverwaltung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9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Vorgehen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Koller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9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Architektur gemeinsam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Koller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9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Singleuser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Schumann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752400" indent="-245880">
              <a:lnSpc>
                <a:spcPct val="9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Lösung, Probleme, UML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752400" indent="-245880">
              <a:lnSpc>
                <a:spcPct val="9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Architektur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752400" indent="-245880">
              <a:lnSpc>
                <a:spcPct val="9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Demo Singleuser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9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Multiuser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Matici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752400" indent="-245880">
              <a:lnSpc>
                <a:spcPct val="9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Architektur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752400" indent="-245880">
              <a:lnSpc>
                <a:spcPct val="9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Lösung, Probleme, FrontController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752400" indent="-245880">
              <a:lnSpc>
                <a:spcPct val="9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Demo Multiuser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9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Subversion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Holliger</a:t>
            </a:r>
            <a:endParaRPr b="0" lang="en-US" sz="16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9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Fragen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674200" cy="4535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62360" y="2790720"/>
            <a:ext cx="49338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699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redit Suisse Type Roman"/>
              </a:rPr>
              <a:t>Präsentation Notizverwaltungssystem</a:t>
            </a:r>
            <a:br>
              <a:rPr sz="2000"/>
            </a:br>
            <a:r>
              <a:rPr b="1" lang="en-US" sz="2500" spc="-1" strike="noStrike">
                <a:solidFill>
                  <a:srgbClr val="ffffff"/>
                </a:solidFill>
                <a:latin typeface="Credit Suisse Type Roman"/>
              </a:rPr>
              <a:t>Projekt Notizverwaltung</a:t>
            </a:r>
            <a:endParaRPr b="0" lang="en-US" sz="2500" spc="-1" strike="noStrike">
              <a:solidFill>
                <a:srgbClr val="0038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Use Case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rcRect l="23034" t="18896" r="28242" b="25353"/>
          <a:stretch/>
        </p:blipFill>
        <p:spPr>
          <a:xfrm>
            <a:off x="1297080" y="1165320"/>
            <a:ext cx="65880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UseCase – neue Notiz erstellen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47840" y="1098720"/>
          <a:ext cx="8258040" cy="4778280"/>
        </p:xfrm>
        <a:graphic>
          <a:graphicData uri="http://schemas.openxmlformats.org/drawingml/2006/table">
            <a:tbl>
              <a:tblPr/>
              <a:tblGrid>
                <a:gridCol w="1958760"/>
                <a:gridCol w="6299280"/>
              </a:tblGrid>
              <a:tr h="259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Beschreibung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User kann die erfasste Notiz in der DB speichern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Akteure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User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Auslöser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User drückt den Button „speichern“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Vorbedingungen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User muss Text eingeben bevor Speicherung erfolgen kann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Eingehende Informationen 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Text, Kategorie, Stichwörter, Titel, Hyperlink,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Ergebnisse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Notiz ist im System abgespeichert.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Speicherbestätigung.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Der User hat die abgespeicherte Notiz geöffnet vor sich.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Ablauf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lvl="1" marL="536400" indent="-357120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1. System erstellt Notiz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  <a:p>
                      <a:pPr lvl="1" marL="536400" indent="-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2. System füllt Autor, Erstell –und Änderungsdatum und Version aus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  <a:p>
                      <a:pPr lvl="1" marL="536400" indent="-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3. System speichert die Notiz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  <a:p>
                      <a:pPr lvl="1" marL="536400" indent="-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4. </a:t>
                      </a:r>
                      <a:r>
                        <a:rPr b="0" lang="de-CH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System stellt die Notiz wieder dar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  <a:p>
                      <a:pPr lvl="1" marL="536400" indent="-357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700" spc="-1" strike="noStrike">
                          <a:solidFill>
                            <a:srgbClr val="003868"/>
                          </a:solidFill>
                          <a:latin typeface="Credit Suisse Type Roman"/>
                          <a:ea typeface="Times New Roman"/>
                        </a:rPr>
                        <a:t>5. System zeigt dem User eine Speicherbestätigung an</a:t>
                      </a:r>
                      <a:endParaRPr b="0" lang="en-US" sz="1700" spc="-1" strike="noStrike">
                        <a:solidFill>
                          <a:srgbClr val="003868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Activity Diagramme – neue Notiz erstellen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46565"/>
          <a:stretch/>
        </p:blipFill>
        <p:spPr>
          <a:xfrm>
            <a:off x="482760" y="1125360"/>
            <a:ext cx="3208320" cy="3745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rcRect l="0" t="49228" r="0" b="0"/>
          <a:stretch/>
        </p:blipFill>
        <p:spPr>
          <a:xfrm>
            <a:off x="5883120" y="2782800"/>
            <a:ext cx="2865600" cy="3176640"/>
          </a:xfrm>
          <a:prstGeom prst="rect">
            <a:avLst/>
          </a:prstGeom>
          <a:ln w="0">
            <a:noFill/>
          </a:ln>
        </p:spPr>
      </p:pic>
      <p:cxnSp>
        <p:nvCxnSpPr>
          <p:cNvPr id="160" name=""/>
          <p:cNvCxnSpPr>
            <a:stCxn id="158" idx="2"/>
            <a:endCxn id="159" idx="0"/>
          </p:cNvCxnSpPr>
          <p:nvPr/>
        </p:nvCxnSpPr>
        <p:spPr>
          <a:xfrm flipH="1" flipV="1" rot="5400000">
            <a:off x="3657240" y="1211400"/>
            <a:ext cx="2088360" cy="5229720"/>
          </a:xfrm>
          <a:prstGeom prst="bentConnector5">
            <a:avLst>
              <a:gd name="adj1" fmla="val -10862"/>
              <a:gd name="adj2" fmla="val 51610"/>
              <a:gd name="adj3" fmla="val 110948"/>
            </a:avLst>
          </a:prstGeom>
          <a:ln w="6480">
            <a:solidFill>
              <a:srgbClr val="00002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UML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11320" y="2527200"/>
            <a:ext cx="1440000" cy="1440000"/>
          </a:xfrm>
          <a:prstGeom prst="rect">
            <a:avLst/>
          </a:prstGeom>
          <a:noFill/>
          <a:ln w="9360">
            <a:solidFill>
              <a:srgbClr val="003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6760" indent="-266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Model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7680" y="3068640"/>
            <a:ext cx="432000" cy="358920"/>
          </a:xfrm>
          <a:prstGeom prst="ellipse">
            <a:avLst/>
          </a:prstGeom>
          <a:noFill/>
          <a:ln w="9360">
            <a:solidFill>
              <a:srgbClr val="003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2960" y="3429000"/>
            <a:ext cx="1368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Mod</a:t>
            </a:r>
            <a:r>
              <a:rPr b="0" lang="en-US" sz="1800" spc="-1" strike="noStrike">
                <a:solidFill>
                  <a:srgbClr val="003868"/>
                </a:solidFill>
                <a:latin typeface="Credit Suisse Type Roman"/>
              </a:rPr>
              <a:t>e</a:t>
            </a: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l Interface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64" idx="6"/>
            <a:endCxn id="163" idx="1"/>
          </p:cNvCxnSpPr>
          <p:nvPr/>
        </p:nvCxnSpPr>
        <p:spPr>
          <a:xfrm>
            <a:off x="1579320" y="3247560"/>
            <a:ext cx="432360" cy="1080"/>
          </a:xfrm>
          <a:prstGeom prst="bentConnector2">
            <a:avLst/>
          </a:prstGeom>
          <a:ln w="9360">
            <a:solidFill>
              <a:srgbClr val="003868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5611680" y="2530440"/>
            <a:ext cx="1440000" cy="1440000"/>
          </a:xfrm>
          <a:prstGeom prst="rect">
            <a:avLst/>
          </a:prstGeom>
          <a:noFill/>
          <a:ln w="9360">
            <a:solidFill>
              <a:srgbClr val="003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6760" indent="-266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SQL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76760" y="3070080"/>
            <a:ext cx="431640" cy="358920"/>
          </a:xfrm>
          <a:prstGeom prst="ellipse">
            <a:avLst/>
          </a:prstGeom>
          <a:noFill/>
          <a:ln w="9360">
            <a:solidFill>
              <a:srgbClr val="003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72040" y="3430440"/>
            <a:ext cx="1368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SQL Interface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7" idx="1"/>
            <a:endCxn id="168" idx="6"/>
          </p:cNvCxnSpPr>
          <p:nvPr/>
        </p:nvCxnSpPr>
        <p:spPr>
          <a:xfrm flipH="1" flipV="1">
            <a:off x="5108040" y="3249360"/>
            <a:ext cx="504000" cy="2160"/>
          </a:xfrm>
          <a:prstGeom prst="straightConnector1">
            <a:avLst/>
          </a:prstGeom>
          <a:ln w="9360">
            <a:solidFill>
              <a:srgbClr val="003868"/>
            </a:solidFill>
            <a:miter/>
          </a:ln>
        </p:spPr>
      </p:cxnSp>
      <p:cxnSp>
        <p:nvCxnSpPr>
          <p:cNvPr id="171" name=""/>
          <p:cNvCxnSpPr>
            <a:stCxn id="163" idx="3"/>
            <a:endCxn id="168" idx="2"/>
          </p:cNvCxnSpPr>
          <p:nvPr/>
        </p:nvCxnSpPr>
        <p:spPr>
          <a:xfrm>
            <a:off x="3451320" y="3247560"/>
            <a:ext cx="1226160" cy="2520"/>
          </a:xfrm>
          <a:prstGeom prst="straightConnector1">
            <a:avLst/>
          </a:prstGeom>
          <a:ln w="9360">
            <a:solidFill>
              <a:srgbClr val="003868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7885080" y="2674800"/>
            <a:ext cx="1008000" cy="1152720"/>
          </a:xfrm>
          <a:prstGeom prst="flowChartMagneticDisk">
            <a:avLst/>
          </a:prstGeom>
          <a:noFill/>
          <a:ln w="9360">
            <a:solidFill>
              <a:srgbClr val="003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6760" indent="-266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DB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cxnSp>
        <p:nvCxnSpPr>
          <p:cNvPr id="173" name=""/>
          <p:cNvCxnSpPr>
            <a:stCxn id="167" idx="3"/>
            <a:endCxn id="172" idx="2"/>
          </p:cNvCxnSpPr>
          <p:nvPr/>
        </p:nvCxnSpPr>
        <p:spPr>
          <a:xfrm>
            <a:off x="7051320" y="3250800"/>
            <a:ext cx="834120" cy="1080"/>
          </a:xfrm>
          <a:prstGeom prst="straightConnector1">
            <a:avLst/>
          </a:prstGeom>
          <a:ln w="9360">
            <a:solidFill>
              <a:srgbClr val="00386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ERD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Datenbank MySQL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33660" t="11333" r="29716" b="35750"/>
          <a:stretch/>
        </p:blipFill>
        <p:spPr>
          <a:xfrm>
            <a:off x="1360440" y="1197000"/>
            <a:ext cx="68835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DBConnectionManager / -Pool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Baut Verbindungen zur Datenbank auf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Methode getConnection</a:t>
            </a:r>
            <a:br>
              <a:rPr sz="2000"/>
            </a:b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gibt Connection an DAO heraus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Methode putConnection</a:t>
            </a:r>
            <a:br>
              <a:rPr sz="2000"/>
            </a:b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Connection wird dem Manager zurückgegeb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DAO (Data Access Object)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Methoden fürs Speicher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Alle Datenbankanfragen kommen von den DAOs 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Bean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Notiz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Beinhaltet alle Informationen über die Notiz (inkl. Version)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Suchkriteri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674200" cy="4535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762360" y="2790720"/>
            <a:ext cx="49338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699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redit Suisse Type Roman"/>
              </a:rPr>
              <a:t>Präsentation Notizverwaltungssystem</a:t>
            </a:r>
            <a:br>
              <a:rPr sz="2000"/>
            </a:br>
            <a:r>
              <a:rPr b="1" lang="en-US" sz="2500" spc="-1" strike="noStrike">
                <a:solidFill>
                  <a:srgbClr val="ffffff"/>
                </a:solidFill>
                <a:latin typeface="Credit Suisse Type Roman"/>
              </a:rPr>
              <a:t>Ziel</a:t>
            </a:r>
            <a:endParaRPr b="0" lang="en-US" sz="2500" spc="-1" strike="noStrike">
              <a:solidFill>
                <a:srgbClr val="0038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GUI-Design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Ursprüngliches Design vom GUI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Fusion von zwei Ide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55640" y="2451240"/>
          <a:ext cx="1152360" cy="761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451240"/>
                    <a:ext cx="115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Architektur (1)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MVC (Model View Controller)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61927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Architektur (2)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de-CH" sz="2000" spc="-1" strike="noStrike">
                <a:solidFill>
                  <a:srgbClr val="003868"/>
                </a:solidFill>
                <a:latin typeface="Credit Suisse Type Roman"/>
              </a:rPr>
              <a:t>Model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Enthält darzustellende Dat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de-CH" sz="2000" spc="-1" strike="noStrike">
                <a:solidFill>
                  <a:srgbClr val="003868"/>
                </a:solidFill>
                <a:latin typeface="Credit Suisse Type Roman"/>
              </a:rPr>
              <a:t>View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Darstellung der Dat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Entgegennahme der Benutzerinteraktion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1" lang="de-CH" sz="2000" spc="-1" strike="noStrike">
                <a:solidFill>
                  <a:srgbClr val="003868"/>
                </a:solidFill>
                <a:latin typeface="Credit Suisse Type Roman"/>
              </a:rPr>
              <a:t>Controller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Verwaltet eine oder mehrere Views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Entscheidet aufgrund von Benutzerinteraktionen, welche Daten im Modell geändert werden müss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Demo Singleuser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Erstellen </a:t>
            </a:r>
            <a:r>
              <a:rPr b="0" lang="de-CH" sz="2000" spc="-1" strike="noStrike">
                <a:solidFill>
                  <a:srgbClr val="003868"/>
                </a:solidFill>
                <a:latin typeface="Wingdings"/>
                <a:ea typeface="Wingdings"/>
              </a:rPr>
              <a:t>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 Use Case von Koller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Such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Bearbeit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Lösch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Multiuser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Architektur Frontcontroller: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17680" y="2422440"/>
            <a:ext cx="1655640" cy="432000"/>
          </a:xfrm>
          <a:prstGeom prst="rect">
            <a:avLst/>
          </a:prstGeom>
          <a:noFill/>
          <a:ln w="9360">
            <a:solidFill>
              <a:srgbClr val="003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6760" indent="-266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SeitenAufruf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49680" y="2422440"/>
            <a:ext cx="1655640" cy="432000"/>
          </a:xfrm>
          <a:prstGeom prst="rect">
            <a:avLst/>
          </a:prstGeom>
          <a:noFill/>
          <a:ln w="9360">
            <a:solidFill>
              <a:srgbClr val="003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6760" indent="-266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FrontController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49680" y="3430440"/>
            <a:ext cx="1655640" cy="432000"/>
          </a:xfrm>
          <a:prstGeom prst="rect">
            <a:avLst/>
          </a:prstGeom>
          <a:noFill/>
          <a:ln w="9360">
            <a:solidFill>
              <a:srgbClr val="003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6760" indent="-266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LoginAction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65680" y="4294080"/>
            <a:ext cx="1655640" cy="432000"/>
          </a:xfrm>
          <a:prstGeom prst="rect">
            <a:avLst/>
          </a:prstGeom>
          <a:noFill/>
          <a:ln w="9360">
            <a:solidFill>
              <a:srgbClr val="003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6760" indent="-266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Login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17680" y="3933720"/>
            <a:ext cx="1655640" cy="432000"/>
          </a:xfrm>
          <a:prstGeom prst="rect">
            <a:avLst/>
          </a:prstGeom>
          <a:noFill/>
          <a:ln w="9360">
            <a:solidFill>
              <a:srgbClr val="003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6760" indent="-266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DAO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14760" y="5157720"/>
            <a:ext cx="1656000" cy="432000"/>
          </a:xfrm>
          <a:prstGeom prst="rect">
            <a:avLst/>
          </a:prstGeom>
          <a:noFill/>
          <a:ln w="9360">
            <a:solidFill>
              <a:srgbClr val="003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6760" indent="-266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Index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16200" y="4870440"/>
            <a:ext cx="863640" cy="576360"/>
          </a:xfrm>
          <a:prstGeom prst="flowChartMagneticDisk">
            <a:avLst/>
          </a:prstGeom>
          <a:noFill/>
          <a:ln w="9360">
            <a:solidFill>
              <a:srgbClr val="003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6760" indent="-266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DB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97" idx="3"/>
            <a:endCxn id="198" idx="1"/>
          </p:cNvCxnSpPr>
          <p:nvPr/>
        </p:nvCxnSpPr>
        <p:spPr>
          <a:xfrm>
            <a:off x="3072960" y="2638080"/>
            <a:ext cx="577080" cy="1080"/>
          </a:xfrm>
          <a:prstGeom prst="straightConnector1">
            <a:avLst/>
          </a:prstGeom>
          <a:ln w="9360">
            <a:solidFill>
              <a:srgbClr val="003868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2"/>
            <a:endCxn id="199" idx="0"/>
          </p:cNvCxnSpPr>
          <p:nvPr/>
        </p:nvCxnSpPr>
        <p:spPr>
          <a:xfrm>
            <a:off x="4478040" y="2854440"/>
            <a:ext cx="1080" cy="576360"/>
          </a:xfrm>
          <a:prstGeom prst="straightConnector1">
            <a:avLst/>
          </a:prstGeom>
          <a:ln w="9360">
            <a:solidFill>
              <a:srgbClr val="003868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0"/>
            <a:endCxn id="200" idx="3"/>
          </p:cNvCxnSpPr>
          <p:nvPr/>
        </p:nvCxnSpPr>
        <p:spPr>
          <a:xfrm flipH="1" rot="16200000">
            <a:off x="3955680" y="2943720"/>
            <a:ext cx="2088360" cy="1043640"/>
          </a:xfrm>
          <a:prstGeom prst="bentConnector4">
            <a:avLst>
              <a:gd name="adj1" fmla="val -10948"/>
              <a:gd name="adj2" fmla="val 146100"/>
            </a:avLst>
          </a:prstGeom>
          <a:ln w="9360">
            <a:solidFill>
              <a:srgbClr val="003868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9" idx="3"/>
            <a:endCxn id="198" idx="3"/>
          </p:cNvCxnSpPr>
          <p:nvPr/>
        </p:nvCxnSpPr>
        <p:spPr>
          <a:xfrm flipV="1">
            <a:off x="5304960" y="2638080"/>
            <a:ext cx="2520" cy="1008720"/>
          </a:xfrm>
          <a:prstGeom prst="bentConnector3">
            <a:avLst>
              <a:gd name="adj1" fmla="val 14300000"/>
            </a:avLst>
          </a:prstGeom>
          <a:ln w="9360">
            <a:solidFill>
              <a:srgbClr val="003868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201" idx="2"/>
            <a:endCxn id="203" idx="1"/>
          </p:cNvCxnSpPr>
          <p:nvPr/>
        </p:nvCxnSpPr>
        <p:spPr>
          <a:xfrm>
            <a:off x="2246400" y="4365720"/>
            <a:ext cx="2160" cy="505440"/>
          </a:xfrm>
          <a:prstGeom prst="straightConnector1">
            <a:avLst/>
          </a:prstGeom>
          <a:ln w="9360">
            <a:solidFill>
              <a:srgbClr val="003868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99" idx="1"/>
            <a:endCxn id="201" idx="0"/>
          </p:cNvCxnSpPr>
          <p:nvPr/>
        </p:nvCxnSpPr>
        <p:spPr>
          <a:xfrm flipV="1" rot="10800000">
            <a:off x="2245680" y="3646080"/>
            <a:ext cx="1404000" cy="288000"/>
          </a:xfrm>
          <a:prstGeom prst="bentConnector2">
            <a:avLst/>
          </a:prstGeom>
          <a:ln w="9360">
            <a:solidFill>
              <a:srgbClr val="003868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198" idx="0"/>
            <a:endCxn id="202" idx="3"/>
          </p:cNvCxnSpPr>
          <p:nvPr/>
        </p:nvCxnSpPr>
        <p:spPr>
          <a:xfrm flipH="1" rot="16200000">
            <a:off x="3848760" y="3051720"/>
            <a:ext cx="2952000" cy="1693080"/>
          </a:xfrm>
          <a:prstGeom prst="bentConnector4">
            <a:avLst>
              <a:gd name="adj1" fmla="val -7744"/>
              <a:gd name="adj2" fmla="val 136750"/>
            </a:avLst>
          </a:prstGeom>
          <a:ln w="9360">
            <a:solidFill>
              <a:srgbClr val="003868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 rot="5400000">
            <a:off x="5257440" y="3262320"/>
            <a:ext cx="1511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2. Daten falsch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6091560" y="3507480"/>
            <a:ext cx="172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2. Daten richtig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18040" y="1917720"/>
            <a:ext cx="12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forward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295920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1a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297648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1b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Lösung, Probleme, UML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4160" indent="-25416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Probleme: </a:t>
            </a:r>
            <a:br>
              <a:rPr sz="2000"/>
            </a:b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- alles läuft über FrontController (auch Bilder, CSS, …)</a:t>
            </a:r>
            <a:br>
              <a:rPr sz="2000"/>
            </a:b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- Bookmark: wenn nicht eingeloggt, Notiz merken und nach Login   </a:t>
            </a:r>
            <a:br>
              <a:rPr sz="2000"/>
            </a:b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  automatisch auf diese spring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416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4160" indent="-25416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Lösung: Filter in web.xml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 &lt;servlet-mapping&gt;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416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	</a:t>
            </a: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      </a:t>
            </a: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&lt;servlet-name&gt;default&lt;/servlet-name&gt;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416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         </a:t>
            </a: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&lt;url-pattern&gt;*.</a:t>
            </a:r>
            <a:r>
              <a:rPr b="0" lang="de-DE" sz="2000" spc="-1" strike="noStrike" u="sng">
                <a:solidFill>
                  <a:srgbClr val="003868"/>
                </a:solidFill>
                <a:uFillTx/>
                <a:latin typeface="Credit Suisse Type Roman"/>
              </a:rPr>
              <a:t>png</a:t>
            </a: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&lt;/url-pattern&gt;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416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         </a:t>
            </a: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&lt;url-pattern&gt;*.</a:t>
            </a:r>
            <a:r>
              <a:rPr b="0" lang="de-DE" sz="2000" spc="-1" strike="noStrike" u="sng">
                <a:solidFill>
                  <a:srgbClr val="003868"/>
                </a:solidFill>
                <a:uFillTx/>
                <a:latin typeface="Credit Suisse Type Roman"/>
              </a:rPr>
              <a:t>gif</a:t>
            </a: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&lt;/url-pattern&gt;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416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    </a:t>
            </a: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&lt;/servlet-mapping&gt;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Demo Multiuser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DE" sz="2600" spc="-1" strike="noStrike">
                <a:solidFill>
                  <a:srgbClr val="003868"/>
                </a:solidFill>
                <a:latin typeface="Credit Suisse Type Roman"/>
              </a:rPr>
              <a:t>Subversion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Versionsverwaltung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Server besitzt die neusten Versionen der Dateien.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Client kann bei sich verschiedene Dateien verändern, mit der Version auf dem Server vergleichen und hochladen.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Open Source (Freie Software)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Moderne Ablösung von CVS (Schwächen ausgebessert)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DE" sz="2000" spc="-1" strike="noStrike">
                <a:solidFill>
                  <a:srgbClr val="003868"/>
                </a:solidFill>
                <a:latin typeface="Credit Suisse Type Roman"/>
              </a:rPr>
              <a:t>Kann als Plugin „Subclipse“ mit Eclipse verwendet werden.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Eclipse &amp; Subclipse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51640" indent="-2516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Eclipse </a:t>
            </a:r>
            <a:r>
              <a:rPr b="0" lang="de-CH" sz="2000" spc="-1" strike="noStrike">
                <a:solidFill>
                  <a:srgbClr val="003868"/>
                </a:solidFill>
                <a:latin typeface="Wingdings"/>
                <a:ea typeface="Wingdings"/>
              </a:rPr>
              <a:t>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 Entwicklungsumgebung für die Programmiersprache Java.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494280" indent="-24084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Erleichtert Programmierung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737280" indent="-240840">
              <a:lnSpc>
                <a:spcPct val="11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Hotkeys &amp; Auto-Vervollständigung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737280" indent="-240840">
              <a:lnSpc>
                <a:spcPct val="11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Compiler auf Knopfdruck erreichbar.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737280" indent="-240840">
              <a:lnSpc>
                <a:spcPct val="11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Übersichtliche Ansicht der Java Dateien, dank Java Projekte, Packages und verschiedenen Perspektiv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737280" indent="-240840">
              <a:lnSpc>
                <a:spcPct val="11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Kann durch viele Plugins erweitert werden.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494280" indent="-24084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Open Source (Free Software)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16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1640" indent="-2516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Subclipse </a:t>
            </a:r>
            <a:r>
              <a:rPr b="0" lang="de-CH" sz="2000" spc="-1" strike="noStrike">
                <a:solidFill>
                  <a:srgbClr val="003868"/>
                </a:solidFill>
                <a:latin typeface="Wingdings"/>
                <a:ea typeface="Wingdings"/>
              </a:rPr>
              <a:t>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 Subversion Plugin für Eclipse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494280" indent="-24084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Einfache Verwendung von SVN in Eclipse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494280" indent="-24084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Kann mit Java Projekten direkt verbunden werden.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1640"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6962760" y="530280"/>
            <a:ext cx="12096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0" y="71280"/>
            <a:ext cx="916776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Ziel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Bild (Subclipse)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600" spc="-1" strike="noStrike">
                <a:solidFill>
                  <a:srgbClr val="003868"/>
                </a:solidFill>
                <a:latin typeface="Credit Suisse Type Roman"/>
              </a:rPr>
              <a:t>Fragen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987640" y="1773360"/>
            <a:ext cx="30481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674200" cy="4535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762360" y="2790720"/>
            <a:ext cx="49338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699"/>
              </a:lnSpc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redit Suisse Type Roman"/>
              </a:rPr>
              <a:t>Präsentation Notizverwaltungssystem</a:t>
            </a:r>
            <a:br>
              <a:rPr sz="2000"/>
            </a:br>
            <a:r>
              <a:rPr b="1" lang="en-US" sz="2500" spc="-1" strike="noStrike">
                <a:solidFill>
                  <a:srgbClr val="ffffff"/>
                </a:solidFill>
                <a:latin typeface="Credit Suisse Type Roman"/>
              </a:rPr>
              <a:t>Lehre</a:t>
            </a:r>
            <a:endParaRPr b="0" lang="en-US" sz="2500" spc="-1" strike="noStrike">
              <a:solidFill>
                <a:srgbClr val="0038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Ausbildung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de-DE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88880" y="1989000"/>
            <a:ext cx="4057560" cy="3888720"/>
            <a:chOff x="488880" y="1989000"/>
            <a:chExt cx="4057560" cy="3888720"/>
          </a:xfrm>
        </p:grpSpPr>
        <p:sp>
          <p:nvSpPr>
            <p:cNvPr id="100" name=""/>
            <p:cNvSpPr/>
            <p:nvPr/>
          </p:nvSpPr>
          <p:spPr>
            <a:xfrm>
              <a:off x="488880" y="2684880"/>
              <a:ext cx="4057560" cy="3192840"/>
            </a:xfrm>
            <a:prstGeom prst="rect">
              <a:avLst/>
            </a:prstGeom>
            <a:solidFill>
              <a:srgbClr val="7392ac">
                <a:alpha val="30000"/>
              </a:srgbClr>
            </a:solidFill>
            <a:ln w="28440">
              <a:solidFill>
                <a:srgbClr val="003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3868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8880" y="1989000"/>
              <a:ext cx="4057560" cy="695880"/>
            </a:xfrm>
            <a:prstGeom prst="rect">
              <a:avLst/>
            </a:prstGeom>
            <a:solidFill>
              <a:srgbClr val="7392ac">
                <a:alpha val="30000"/>
              </a:srgbClr>
            </a:solidFill>
            <a:ln w="28440">
              <a:solidFill>
                <a:srgbClr val="003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266760" indent="-266760" algn="ctr">
                <a:lnSpc>
                  <a:spcPct val="94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868"/>
                  </a:solidFill>
                  <a:latin typeface="Credit Suisse Type Roman"/>
                </a:rPr>
                <a:t>off-the-job</a:t>
              </a:r>
              <a:endParaRPr b="0" lang="en-US" sz="2000" spc="-1" strike="noStrike">
                <a:solidFill>
                  <a:srgbClr val="003868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762440" y="1989000"/>
            <a:ext cx="4057560" cy="3888720"/>
            <a:chOff x="4762440" y="1989000"/>
            <a:chExt cx="4057560" cy="3888720"/>
          </a:xfrm>
        </p:grpSpPr>
        <p:sp>
          <p:nvSpPr>
            <p:cNvPr id="103" name=""/>
            <p:cNvSpPr/>
            <p:nvPr/>
          </p:nvSpPr>
          <p:spPr>
            <a:xfrm>
              <a:off x="4762440" y="2684880"/>
              <a:ext cx="4057560" cy="3192840"/>
            </a:xfrm>
            <a:prstGeom prst="rect">
              <a:avLst/>
            </a:prstGeom>
            <a:solidFill>
              <a:srgbClr val="7392ac">
                <a:alpha val="30000"/>
              </a:srgbClr>
            </a:solidFill>
            <a:ln w="28440">
              <a:solidFill>
                <a:srgbClr val="003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3868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62440" y="1989000"/>
              <a:ext cx="4057560" cy="695880"/>
            </a:xfrm>
            <a:prstGeom prst="rect">
              <a:avLst/>
            </a:prstGeom>
            <a:solidFill>
              <a:srgbClr val="7392ac">
                <a:alpha val="30000"/>
              </a:srgbClr>
            </a:solidFill>
            <a:ln w="28440">
              <a:solidFill>
                <a:srgbClr val="003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266760" indent="-266760" algn="ctr">
                <a:lnSpc>
                  <a:spcPct val="94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868"/>
                  </a:solidFill>
                  <a:latin typeface="Credit Suisse Type Roman"/>
                </a:rPr>
                <a:t>on-the-job</a:t>
              </a:r>
              <a:endParaRPr b="0" lang="en-US" sz="2000" spc="-1" strike="noStrike">
                <a:solidFill>
                  <a:srgbClr val="003868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762440" y="2637000"/>
            <a:ext cx="395928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1800" spc="-1" strike="noStrike">
                <a:solidFill>
                  <a:srgbClr val="003868"/>
                </a:solidFill>
                <a:latin typeface="Credit Suisse Type Roman"/>
              </a:rPr>
              <a:t>Betriebsorganisation (BO)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1800" spc="-1" strike="noStrike">
                <a:solidFill>
                  <a:srgbClr val="003868"/>
                </a:solidFill>
                <a:latin typeface="Credit Suisse Type Roman"/>
              </a:rPr>
              <a:t>Fronteinsatz (FE)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en-US" sz="1800" spc="-1" strike="noStrike">
                <a:solidFill>
                  <a:srgbClr val="003868"/>
                </a:solidFill>
                <a:latin typeface="Credit Suisse Type Roman"/>
              </a:rPr>
              <a:t>Entwickler Einsatz (EE)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440" y="2781360"/>
            <a:ext cx="39592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Schule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  <a:p>
            <a:pPr lvl="2" marL="752400" indent="-245880">
              <a:lnSpc>
                <a:spcPct val="11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Berufsschule</a:t>
            </a:r>
            <a:endParaRPr b="0" lang="en-US" sz="1600" spc="-1" strike="noStrike">
              <a:solidFill>
                <a:srgbClr val="003868"/>
              </a:solidFill>
              <a:latin typeface="Arial"/>
            </a:endParaRPr>
          </a:p>
          <a:p>
            <a:pPr lvl="2" marL="752400" indent="-245880">
              <a:lnSpc>
                <a:spcPct val="11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Berufsmittelschule (BMS)</a:t>
            </a:r>
            <a:endParaRPr b="0" lang="en-US" sz="1600" spc="-1" strike="noStrike">
              <a:solidFill>
                <a:srgbClr val="003868"/>
              </a:solidFill>
              <a:latin typeface="Arial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Santis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  <a:p>
            <a:pPr lvl="2" marL="752400" indent="-245880">
              <a:lnSpc>
                <a:spcPct val="11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Module</a:t>
            </a:r>
            <a:endParaRPr b="0" lang="en-US" sz="1600" spc="-1" strike="noStrike">
              <a:solidFill>
                <a:srgbClr val="003868"/>
              </a:solidFill>
              <a:latin typeface="Arial"/>
            </a:endParaRPr>
          </a:p>
          <a:p>
            <a:pPr lvl="2" marL="752400" indent="-245880">
              <a:lnSpc>
                <a:spcPct val="11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Spezialkurse</a:t>
            </a:r>
            <a:endParaRPr b="0" lang="en-US" sz="1600" spc="-1" strike="noStrike">
              <a:solidFill>
                <a:srgbClr val="003868"/>
              </a:solidFill>
              <a:latin typeface="Arial"/>
            </a:endParaRPr>
          </a:p>
          <a:p>
            <a:pPr lvl="1" marL="504720" indent="-245880">
              <a:lnSpc>
                <a:spcPct val="110000"/>
              </a:lnSpc>
              <a:buClr>
                <a:srgbClr val="003868"/>
              </a:buClr>
              <a:buSzPct val="120000"/>
              <a:buFont typeface="Credit Suisse Type Roman"/>
              <a:buChar char="–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Credit Suisse Type Roman"/>
              </a:rPr>
              <a:t>CS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  <a:p>
            <a:pPr lvl="2" marL="752400" indent="-245880">
              <a:lnSpc>
                <a:spcPct val="11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1600" spc="-1" strike="noStrike">
                <a:solidFill>
                  <a:srgbClr val="003868"/>
                </a:solidFill>
                <a:latin typeface="Credit Suisse Type Roman"/>
              </a:rPr>
              <a:t>Banking Today</a:t>
            </a:r>
            <a:endParaRPr b="0" lang="en-US" sz="1600" spc="-1" strike="noStrike">
              <a:solidFill>
                <a:srgbClr val="0038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Schule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Horg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Berufsschule: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Donnerstag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752400" indent="-245880">
              <a:lnSpc>
                <a:spcPct val="11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Module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Kaufmännische BMS: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1" marL="50472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Freitag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lvl="2" marL="752400" indent="-245880">
              <a:lnSpc>
                <a:spcPct val="110000"/>
              </a:lnSpc>
              <a:buClr>
                <a:srgbClr val="003868"/>
              </a:buClr>
              <a:buSzPct val="80000"/>
              <a:buFont typeface="Wingdings" charset="2"/>
              <a:buChar char=""/>
              <a:tabLst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normal Schule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1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 u="sng">
                <a:solidFill>
                  <a:srgbClr val="9d0e2d"/>
                </a:solidFill>
                <a:uFillTx/>
                <a:latin typeface="Credit Suisse Type Roman"/>
                <a:hlinkClick r:id="rId1"/>
              </a:rPr>
              <a:t>http://</a:t>
            </a:r>
            <a:r>
              <a:rPr b="0" lang="de-CH" sz="2000" spc="-1" strike="noStrike" u="sng">
                <a:solidFill>
                  <a:srgbClr val="9d0e2d"/>
                </a:solidFill>
                <a:uFillTx/>
                <a:latin typeface="Credit Suisse Type Roman"/>
                <a:hlinkClick r:id="rId2"/>
              </a:rPr>
              <a:t>www.bzzuerichsee.ch</a:t>
            </a:r>
            <a:r>
              <a:rPr b="0" lang="de-CH" sz="2000" spc="-1" strike="noStrike" u="sng">
                <a:solidFill>
                  <a:srgbClr val="9d0e2d"/>
                </a:solidFill>
                <a:uFillTx/>
                <a:latin typeface="Credit Suisse Type Roman"/>
                <a:hlinkClick r:id="rId3"/>
              </a:rPr>
              <a:t>/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1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292720" y="1341360"/>
            <a:ext cx="28796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Einsätze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2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7280" y="1844640"/>
            <a:ext cx="1979640" cy="40384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8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68"/>
                </a:solidFill>
                <a:latin typeface="Credit Suisse Type Roman"/>
              </a:rPr>
              <a:t>1. Lehrjahr</a:t>
            </a:r>
            <a:endParaRPr b="0" lang="en-US" sz="16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00" y="2867040"/>
            <a:ext cx="1870200" cy="2521080"/>
          </a:xfrm>
          <a:prstGeom prst="rect">
            <a:avLst/>
          </a:prstGeom>
          <a:solidFill>
            <a:srgbClr val="d5dee6"/>
          </a:solidFill>
          <a:ln w="28440">
            <a:solidFill>
              <a:srgbClr val="00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32240" y="1854360"/>
            <a:ext cx="1979280" cy="40384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8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68"/>
                </a:solidFill>
                <a:latin typeface="Credit Suisse Type Roman"/>
              </a:rPr>
              <a:t>2. Lehrjahr</a:t>
            </a:r>
            <a:endParaRPr b="0" lang="en-US" sz="16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5400" y="1854360"/>
            <a:ext cx="1979640" cy="40384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8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68"/>
                </a:solidFill>
                <a:latin typeface="Credit Suisse Type Roman"/>
              </a:rPr>
              <a:t>3. Lehrjahr</a:t>
            </a:r>
            <a:endParaRPr b="0" lang="en-US" sz="16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80000" y="1854360"/>
            <a:ext cx="1979640" cy="40384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66760" indent="-266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68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68"/>
                </a:solidFill>
                <a:latin typeface="Credit Suisse Type Roman"/>
              </a:rPr>
              <a:t>4. Lehrjahr</a:t>
            </a:r>
            <a:endParaRPr b="0" lang="en-US" sz="16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1640" y="3227400"/>
            <a:ext cx="1655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38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68"/>
                </a:solidFill>
                <a:latin typeface="Arial"/>
              </a:rPr>
              <a:t>1. BO-Einsatz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38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68"/>
                </a:solidFill>
                <a:latin typeface="Arial"/>
              </a:rPr>
              <a:t>Evt. 2. BO-Einsatz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73280" y="2867040"/>
            <a:ext cx="936720" cy="2521080"/>
          </a:xfrm>
          <a:prstGeom prst="rect">
            <a:avLst/>
          </a:prstGeom>
          <a:solidFill>
            <a:srgbClr val="d5dee6"/>
          </a:solidFill>
          <a:ln w="28440">
            <a:solidFill>
              <a:srgbClr val="00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2141280" y="3803400"/>
            <a:ext cx="17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Arial"/>
              </a:rPr>
              <a:t>FE-Einsatz im KV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867040"/>
            <a:ext cx="2880000" cy="2521080"/>
          </a:xfrm>
          <a:prstGeom prst="rect">
            <a:avLst/>
          </a:prstGeom>
          <a:solidFill>
            <a:srgbClr val="d5dee6"/>
          </a:solidFill>
          <a:ln w="28440">
            <a:solidFill>
              <a:srgbClr val="00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51120" y="3227400"/>
            <a:ext cx="248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3868"/>
                </a:solidFill>
                <a:latin typeface="Arial"/>
              </a:rPr>
              <a:t>1. Entwickler Einsatz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Arial"/>
              </a:rPr>
              <a:t>(EE-Einsatz)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34000" y="2867040"/>
            <a:ext cx="1845000" cy="2521080"/>
          </a:xfrm>
          <a:prstGeom prst="rect">
            <a:avLst/>
          </a:prstGeom>
          <a:solidFill>
            <a:srgbClr val="d5dee6"/>
          </a:solidFill>
          <a:ln w="28440">
            <a:solidFill>
              <a:srgbClr val="00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266760" indent="-26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48480" y="3255840"/>
            <a:ext cx="16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3868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003868"/>
                </a:solidFill>
                <a:latin typeface="Arial"/>
              </a:rPr>
              <a:t>2. EE-Einsatz</a:t>
            </a:r>
            <a:endParaRPr b="0" lang="en-US" sz="1800" spc="-1" strike="noStrike">
              <a:solidFill>
                <a:srgbClr val="0038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529920"/>
            <a:ext cx="823896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600" spc="-1" strike="noStrike">
                <a:solidFill>
                  <a:srgbClr val="003868"/>
                </a:solidFill>
                <a:latin typeface="Credit Suisse Type Roman"/>
              </a:rPr>
              <a:t>Übertritt in die Berufswelt</a:t>
            </a:r>
            <a:endParaRPr b="0" lang="en-US" sz="2600" spc="-1" strike="noStrike">
              <a:solidFill>
                <a:srgbClr val="003868"/>
              </a:solidFill>
              <a:latin typeface="Credit Suisse Type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480" y="1371600"/>
            <a:ext cx="825804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-257040">
              <a:lnSpc>
                <a:spcPct val="10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3 Tage Geschäft, 2 Tage Schule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0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0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Gelerntes muss mitgenommen werd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0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0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mehr Verantwortung (mehr Stress)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0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0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ein organisatorisches Genie werd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0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0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keine freie Nachmittage und weniger Ferie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0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0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Teamarbeit </a:t>
            </a:r>
            <a:r>
              <a:rPr b="0" lang="de-CH" sz="2000" spc="-1" strike="noStrike">
                <a:solidFill>
                  <a:srgbClr val="003868"/>
                </a:solidFill>
                <a:latin typeface="Wingdings"/>
                <a:ea typeface="Wingdings"/>
              </a:rPr>
              <a:t></a:t>
            </a: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 Allein sein war Gestern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00000"/>
              </a:lnSpc>
              <a:buNone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-257040">
              <a:lnSpc>
                <a:spcPct val="100000"/>
              </a:lnSpc>
              <a:buClr>
                <a:srgbClr val="003868"/>
              </a:buClr>
              <a:buSzPct val="120000"/>
              <a:buFont typeface="Wingdings" charset="2"/>
              <a:buChar char=""/>
              <a:tabLst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r>
              <a:rPr b="0" lang="de-CH" sz="2000" spc="-1" strike="noStrike">
                <a:solidFill>
                  <a:srgbClr val="003868"/>
                </a:solidFill>
                <a:latin typeface="Credit Suisse Type Roman"/>
              </a:rPr>
              <a:t>Hausaufgaben und Arbeit</a:t>
            </a: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  <a:p>
            <a:pPr marL="257040" indent="0">
              <a:lnSpc>
                <a:spcPct val="100000"/>
              </a:lnSpc>
              <a:buNone/>
              <a:tabLst>
                <a:tab algn="l" pos="0"/>
                <a:tab algn="l" pos="728640"/>
                <a:tab algn="l" pos="1457280"/>
                <a:tab algn="l" pos="2185920"/>
                <a:tab algn="l" pos="2914560"/>
                <a:tab algn="l" pos="3643200"/>
                <a:tab algn="l" pos="4371840"/>
                <a:tab algn="l" pos="5100480"/>
                <a:tab algn="l" pos="5829480"/>
                <a:tab algn="l" pos="6558120"/>
                <a:tab algn="l" pos="7286760"/>
                <a:tab algn="l" pos="8015400"/>
                <a:tab algn="l" pos="8744040"/>
                <a:tab algn="l" pos="9472680"/>
                <a:tab algn="l" pos="10201320"/>
                <a:tab algn="l" pos="10929960"/>
              </a:tabLst>
            </a:pPr>
            <a:endParaRPr b="0" lang="en-US" sz="2000" spc="-1" strike="noStrike">
              <a:solidFill>
                <a:srgbClr val="003868"/>
              </a:solidFill>
              <a:latin typeface="Credit Suisse Type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7:52:06Z</dcterms:created>
  <dc:creator>Grötsch Valentin (XHLY 109)</dc:creator>
  <dc:description/>
  <dc:language>en-US</dc:language>
  <cp:lastModifiedBy>chantal.traber</cp:lastModifiedBy>
  <dcterms:modified xsi:type="dcterms:W3CDTF">2008-09-09T11:59:19Z</dcterms:modified>
  <cp:revision>116</cp:revision>
  <dc:subject/>
  <dc:title>Eine IT-Lehre in der Credit-Suisse?</dc:title>
</cp:coreProperties>
</file>