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BB4D-B343-4F0C-9A19-39D996CD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60BC-1641-4114-A060-74A11477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BBEA-D275-4863-B707-8C0A33EF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959D-7637-4036-9A6F-A95B491D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047E-540E-4537-A421-3204A1A5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D849-AC46-46A5-999C-5B53767D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E703-7F56-411D-AFBA-4E247088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A980-C854-4276-A58E-36640CDA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8002-EA9C-450B-8FFC-D5F933AF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0339-0039-4F7D-8A41-82A2DAAA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E05C-DA2C-421A-B0D2-3A22BE90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912D-33BF-419A-91A8-E7C40515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1601-1687-4A11-9C03-1B0236695EC2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Gui Beisp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5564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35280" y="1557360"/>
            <a:ext cx="107928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042920" y="2084400"/>
            <a:ext cx="1441440" cy="623880"/>
            <a:chOff x="1042920" y="2084400"/>
            <a:chExt cx="1441440" cy="623880"/>
          </a:xfrm>
        </p:grpSpPr>
        <p:sp>
          <p:nvSpPr>
            <p:cNvPr id="300" name=""/>
            <p:cNvSpPr/>
            <p:nvPr/>
          </p:nvSpPr>
          <p:spPr>
            <a:xfrm>
              <a:off x="1042920" y="2421000"/>
              <a:ext cx="144144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60520" y="208440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t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2843280" y="2421000"/>
            <a:ext cx="1441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987640" y="20890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chwö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16360" y="2421000"/>
            <a:ext cx="1441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86728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11920" y="2463840"/>
            <a:ext cx="216000" cy="21600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16440" y="20844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42920" y="4005360"/>
            <a:ext cx="7058160" cy="14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067280" y="369108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l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732720" y="242100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dd.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32720" y="566100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042920" y="3009960"/>
            <a:ext cx="1441440" cy="611280"/>
            <a:chOff x="1042920" y="3009960"/>
            <a:chExt cx="1441440" cy="611280"/>
          </a:xfrm>
        </p:grpSpPr>
        <p:sp>
          <p:nvSpPr>
            <p:cNvPr id="315" name=""/>
            <p:cNvSpPr/>
            <p:nvPr/>
          </p:nvSpPr>
          <p:spPr>
            <a:xfrm>
              <a:off x="1042920" y="3333600"/>
              <a:ext cx="1441440" cy="28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22360" y="3009960"/>
              <a:ext cx="80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2708280" y="3035160"/>
            <a:ext cx="17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Änderungsdat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1760" y="3357720"/>
            <a:ext cx="3618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62320" y="3357720"/>
            <a:ext cx="3618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80000" y="3357720"/>
            <a:ext cx="576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27640" y="3357720"/>
            <a:ext cx="1296720" cy="288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D.MM.JJJJ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17960" y="3357720"/>
            <a:ext cx="1429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3357720"/>
            <a:ext cx="1429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0340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41560" y="16286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zei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866760" y="1700280"/>
            <a:ext cx="71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67120" y="170028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5564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835280" y="1557360"/>
            <a:ext cx="107928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042920" y="2084400"/>
            <a:ext cx="1441440" cy="623880"/>
            <a:chOff x="1042920" y="2084400"/>
            <a:chExt cx="1441440" cy="623880"/>
          </a:xfrm>
        </p:grpSpPr>
        <p:sp>
          <p:nvSpPr>
            <p:cNvPr id="342" name=""/>
            <p:cNvSpPr/>
            <p:nvPr/>
          </p:nvSpPr>
          <p:spPr>
            <a:xfrm>
              <a:off x="1042920" y="2421000"/>
              <a:ext cx="144144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460520" y="208440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t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843280" y="2421000"/>
            <a:ext cx="1441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87640" y="20890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chwö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16360" y="2421000"/>
            <a:ext cx="1441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6728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11920" y="2463840"/>
            <a:ext cx="216000" cy="21600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816440" y="20844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4005360"/>
            <a:ext cx="7058160" cy="14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067280" y="369108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l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32720" y="242100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dd.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732720" y="566100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042920" y="3009960"/>
            <a:ext cx="1441440" cy="611280"/>
            <a:chOff x="1042920" y="3009960"/>
            <a:chExt cx="1441440" cy="611280"/>
          </a:xfrm>
        </p:grpSpPr>
        <p:sp>
          <p:nvSpPr>
            <p:cNvPr id="357" name=""/>
            <p:cNvSpPr/>
            <p:nvPr/>
          </p:nvSpPr>
          <p:spPr>
            <a:xfrm>
              <a:off x="1042920" y="3333600"/>
              <a:ext cx="1441440" cy="28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22360" y="3009960"/>
              <a:ext cx="80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2708280" y="3035160"/>
            <a:ext cx="17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Änderungsdat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741760" y="3357720"/>
            <a:ext cx="3618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62320" y="3357720"/>
            <a:ext cx="3618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780000" y="3357720"/>
            <a:ext cx="5760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27640" y="3357720"/>
            <a:ext cx="1296720" cy="288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D.MM.JJJJ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117960" y="3357720"/>
            <a:ext cx="1429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635280" y="3357720"/>
            <a:ext cx="1429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564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14836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Öff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ö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890800" y="1557360"/>
            <a:ext cx="107964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956720" y="2205000"/>
            <a:ext cx="28728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028000" y="5229360"/>
            <a:ext cx="144360" cy="144360"/>
          </a:xfrm>
          <a:prstGeom prst="flowChartMerg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8028000" y="2275920"/>
            <a:ext cx="144360" cy="144360"/>
          </a:xfrm>
          <a:prstGeom prst="flowChartMerg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028000" y="2565360"/>
            <a:ext cx="144360" cy="72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914560" y="1665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Tre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870120" y="2103480"/>
            <a:ext cx="6984360" cy="3312720"/>
            <a:chOff x="870120" y="2103480"/>
            <a:chExt cx="6984360" cy="3312720"/>
          </a:xfrm>
        </p:grpSpPr>
        <p:sp>
          <p:nvSpPr>
            <p:cNvPr id="391" name=""/>
            <p:cNvSpPr/>
            <p:nvPr/>
          </p:nvSpPr>
          <p:spPr>
            <a:xfrm>
              <a:off x="870120" y="233640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70120" y="257292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70120" y="281124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70120" y="304776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70120" y="3283920"/>
              <a:ext cx="6982920" cy="238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70120" y="2103480"/>
              <a:ext cx="6984360" cy="236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Kategorie</a:t>
              </a: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      Titel                              Autor </a:t>
              </a: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        Änderungsd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70120" y="352080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70120" y="375732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70120" y="399204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70120" y="423000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70120" y="4468320"/>
              <a:ext cx="6982920" cy="238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70120" y="470484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70120" y="493992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70120" y="517824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2556000" y="2349360"/>
            <a:ext cx="144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282920" y="2349360"/>
            <a:ext cx="180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94200" y="2349360"/>
            <a:ext cx="180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851280" y="1627200"/>
            <a:ext cx="73080" cy="73080"/>
            <a:chOff x="3851280" y="1627200"/>
            <a:chExt cx="73080" cy="73080"/>
          </a:xfrm>
        </p:grpSpPr>
        <p:sp>
          <p:nvSpPr>
            <p:cNvPr id="409" name=""/>
            <p:cNvSpPr/>
            <p:nvPr/>
          </p:nvSpPr>
          <p:spPr>
            <a:xfrm>
              <a:off x="3851280" y="1627200"/>
              <a:ext cx="730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3851280" y="1627200"/>
              <a:ext cx="712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83040" y="1557360"/>
            <a:ext cx="107964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042920" y="2421000"/>
            <a:ext cx="144144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60520" y="20844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771640" y="2421000"/>
            <a:ext cx="144144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916360" y="2060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042920" y="3789360"/>
            <a:ext cx="7058160" cy="1655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75120" y="349092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z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12280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arb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ö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90340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41560" y="166680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Tre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851280" y="170028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3851280" y="170028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56000" y="2852640"/>
            <a:ext cx="120780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058760" y="285264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443640" y="2421000"/>
            <a:ext cx="120816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.04.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43440" y="242100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stelldat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443640" y="2781360"/>
            <a:ext cx="120816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.09.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843440" y="278136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Änderungsdat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56000" y="3284640"/>
            <a:ext cx="120780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55640" y="1628640"/>
            <a:ext cx="1079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058760" y="328464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995640" y="16286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zei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930560" y="1628640"/>
            <a:ext cx="73080" cy="73080"/>
            <a:chOff x="4930560" y="1628640"/>
            <a:chExt cx="73080" cy="73080"/>
          </a:xfrm>
        </p:grpSpPr>
        <p:sp>
          <p:nvSpPr>
            <p:cNvPr id="449" name=""/>
            <p:cNvSpPr/>
            <p:nvPr/>
          </p:nvSpPr>
          <p:spPr>
            <a:xfrm>
              <a:off x="4930920" y="1628640"/>
              <a:ext cx="727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4930560" y="1628640"/>
              <a:ext cx="709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55640" y="1557360"/>
            <a:ext cx="107964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1042920" y="2084400"/>
            <a:ext cx="1441440" cy="623880"/>
            <a:chOff x="1042920" y="2084400"/>
            <a:chExt cx="1441440" cy="623880"/>
          </a:xfrm>
        </p:grpSpPr>
        <p:sp>
          <p:nvSpPr>
            <p:cNvPr id="464" name=""/>
            <p:cNvSpPr/>
            <p:nvPr/>
          </p:nvSpPr>
          <p:spPr>
            <a:xfrm>
              <a:off x="1042920" y="2421000"/>
              <a:ext cx="144144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60520" y="208440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t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2843280" y="2421000"/>
            <a:ext cx="1441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987640" y="20890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chwö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716360" y="2421000"/>
            <a:ext cx="1441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86728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911920" y="2463840"/>
            <a:ext cx="216000" cy="21600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816440" y="20844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042920" y="3789360"/>
            <a:ext cx="705816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975120" y="349092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z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732720" y="242100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dd.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042920" y="3068640"/>
            <a:ext cx="70581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683160" y="2755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 Pf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076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ich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90340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28960" y="166680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Tre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851280" y="170028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3851280" y="170028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98304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008600" y="16286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zei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932360" y="170028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932360" y="170028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55640" y="1557360"/>
            <a:ext cx="107964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1042920" y="2084400"/>
            <a:ext cx="1441440" cy="623880"/>
            <a:chOff x="1042920" y="2084400"/>
            <a:chExt cx="1441440" cy="623880"/>
          </a:xfrm>
        </p:grpSpPr>
        <p:sp>
          <p:nvSpPr>
            <p:cNvPr id="503" name=""/>
            <p:cNvSpPr/>
            <p:nvPr/>
          </p:nvSpPr>
          <p:spPr>
            <a:xfrm>
              <a:off x="1042920" y="2421000"/>
              <a:ext cx="144144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460520" y="208440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t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2843280" y="2421000"/>
            <a:ext cx="1441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987640" y="20890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chwö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716360" y="2421000"/>
            <a:ext cx="1441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911920" y="2463840"/>
            <a:ext cx="216000" cy="21600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16440" y="20844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042920" y="3789360"/>
            <a:ext cx="705816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975120" y="349092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z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732720" y="242100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dd.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042920" y="3068640"/>
            <a:ext cx="70581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683160" y="2755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 Pf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218200" y="560376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ich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732720" y="560376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3203640" y="3068640"/>
            <a:ext cx="2361960" cy="1200240"/>
            <a:chOff x="3203640" y="3068640"/>
            <a:chExt cx="2361960" cy="1200240"/>
          </a:xfrm>
        </p:grpSpPr>
        <p:pic>
          <p:nvPicPr>
            <p:cNvPr id="522" name="" descr=""/>
            <p:cNvPicPr/>
            <p:nvPr/>
          </p:nvPicPr>
          <p:blipFill>
            <a:blip r:embed="rId1"/>
            <a:stretch/>
          </p:blipFill>
          <p:spPr>
            <a:xfrm>
              <a:off x="3203640" y="3068640"/>
              <a:ext cx="236196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3736800" y="3451320"/>
              <a:ext cx="1726920" cy="459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e Notiz wurde gespeiche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232080" y="3090960"/>
              <a:ext cx="2088720" cy="246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tizverwaltu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290340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928960" y="166680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Tre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3851280" y="170028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98304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995640" y="16286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zei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4932360" y="170028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932360" y="170028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3851280" y="170028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51280" y="170028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5564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042920" y="2421000"/>
            <a:ext cx="144144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460520" y="20844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771640" y="2421000"/>
            <a:ext cx="144144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916360" y="2060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042920" y="3789360"/>
            <a:ext cx="7058160" cy="1655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975120" y="349092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z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12280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arb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ö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0340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928960" y="166680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Tre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51280" y="170028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851280" y="170028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556000" y="2852640"/>
            <a:ext cx="120780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058760" y="285264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443640" y="2421000"/>
            <a:ext cx="120816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.04.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843440" y="242100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stelldat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443640" y="2781360"/>
            <a:ext cx="120816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.09.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843440" y="278136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Änderungsdat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556000" y="3284640"/>
            <a:ext cx="120780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058760" y="328464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957480" y="1557360"/>
            <a:ext cx="122400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zei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029200" y="1628640"/>
            <a:ext cx="73080" cy="73080"/>
            <a:chOff x="5029200" y="1628640"/>
            <a:chExt cx="73080" cy="73080"/>
          </a:xfrm>
        </p:grpSpPr>
        <p:sp>
          <p:nvSpPr>
            <p:cNvPr id="571" name=""/>
            <p:cNvSpPr/>
            <p:nvPr/>
          </p:nvSpPr>
          <p:spPr>
            <a:xfrm>
              <a:off x="5029200" y="1628640"/>
              <a:ext cx="730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5029200" y="1628640"/>
              <a:ext cx="712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5564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042920" y="2421000"/>
            <a:ext cx="144144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460520" y="20844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771640" y="2421000"/>
            <a:ext cx="144144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916360" y="2060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042920" y="3789360"/>
            <a:ext cx="7058160" cy="1655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75120" y="349092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z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12280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arb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ö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90340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928960" y="166680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Tre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851280" y="170028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851280" y="170028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56000" y="2852640"/>
            <a:ext cx="120780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058760" y="285264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443640" y="2421000"/>
            <a:ext cx="120816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.04.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843440" y="242100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stelldat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443640" y="2781360"/>
            <a:ext cx="120816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.09.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843440" y="278136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Änderungsdat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6000" y="3284640"/>
            <a:ext cx="120780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058760" y="328464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83040" y="1557360"/>
            <a:ext cx="122400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zei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2576520" y="2533680"/>
            <a:ext cx="3990960" cy="1333440"/>
          </a:xfrm>
          <a:prstGeom prst="rect">
            <a:avLst/>
          </a:prstGeom>
          <a:ln w="0">
            <a:noFill/>
          </a:ln>
        </p:spPr>
      </p:pic>
      <p:grpSp>
        <p:nvGrpSpPr>
          <p:cNvPr id="610" name=""/>
          <p:cNvGrpSpPr/>
          <p:nvPr/>
        </p:nvGrpSpPr>
        <p:grpSpPr>
          <a:xfrm>
            <a:off x="5003640" y="1628640"/>
            <a:ext cx="73080" cy="73080"/>
            <a:chOff x="5003640" y="1628640"/>
            <a:chExt cx="73080" cy="73080"/>
          </a:xfrm>
        </p:grpSpPr>
        <p:sp>
          <p:nvSpPr>
            <p:cNvPr id="611" name=""/>
            <p:cNvSpPr/>
            <p:nvPr/>
          </p:nvSpPr>
          <p:spPr>
            <a:xfrm>
              <a:off x="5003640" y="1628640"/>
              <a:ext cx="730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5003640" y="1628640"/>
              <a:ext cx="712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5564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042920" y="2421000"/>
            <a:ext cx="144144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460520" y="20844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771640" y="2421000"/>
            <a:ext cx="144144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916360" y="2060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042920" y="3789360"/>
            <a:ext cx="7058160" cy="1655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975120" y="349092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z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12280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arb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ö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90340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928960" y="166680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Tre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3851280" y="1700280"/>
            <a:ext cx="73080" cy="73080"/>
            <a:chOff x="3851280" y="1700280"/>
            <a:chExt cx="73080" cy="73080"/>
          </a:xfrm>
        </p:grpSpPr>
        <p:sp>
          <p:nvSpPr>
            <p:cNvPr id="638" name=""/>
            <p:cNvSpPr/>
            <p:nvPr/>
          </p:nvSpPr>
          <p:spPr>
            <a:xfrm>
              <a:off x="3851280" y="1700280"/>
              <a:ext cx="730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3851280" y="1700280"/>
              <a:ext cx="712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556000" y="2852640"/>
            <a:ext cx="120780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058760" y="285264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443640" y="2421000"/>
            <a:ext cx="120816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.04.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843440" y="242100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stelldat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443640" y="2781360"/>
            <a:ext cx="120816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.09.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843440" y="278136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Änderungsdat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556000" y="3284640"/>
            <a:ext cx="120780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058760" y="328464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983040" y="1557360"/>
            <a:ext cx="122400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zei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3419640" y="2781360"/>
            <a:ext cx="2361960" cy="120024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3924360" y="3141720"/>
            <a:ext cx="1727280" cy="45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 Notiz wurde gelös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419640" y="2781360"/>
            <a:ext cx="208908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izverwalt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5037120" y="1641600"/>
            <a:ext cx="73080" cy="73080"/>
            <a:chOff x="5037120" y="1641600"/>
            <a:chExt cx="73080" cy="73080"/>
          </a:xfrm>
        </p:grpSpPr>
        <p:sp>
          <p:nvSpPr>
            <p:cNvPr id="654" name=""/>
            <p:cNvSpPr/>
            <p:nvPr/>
          </p:nvSpPr>
          <p:spPr>
            <a:xfrm>
              <a:off x="5037120" y="1641600"/>
              <a:ext cx="730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5037120" y="1641600"/>
              <a:ext cx="712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5564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36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Öff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ö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843280" y="1557360"/>
            <a:ext cx="107928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956720" y="2205000"/>
            <a:ext cx="28728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028000" y="5229360"/>
            <a:ext cx="144360" cy="144360"/>
          </a:xfrm>
          <a:prstGeom prst="flowChartMerg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8028000" y="2275920"/>
            <a:ext cx="144360" cy="144360"/>
          </a:xfrm>
          <a:prstGeom prst="flowChartMerg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8028000" y="2565360"/>
            <a:ext cx="144360" cy="72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914560" y="1665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Tre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870120" y="2103480"/>
            <a:ext cx="6984360" cy="3312720"/>
            <a:chOff x="870120" y="2103480"/>
            <a:chExt cx="6984360" cy="3312720"/>
          </a:xfrm>
        </p:grpSpPr>
        <p:sp>
          <p:nvSpPr>
            <p:cNvPr id="680" name=""/>
            <p:cNvSpPr/>
            <p:nvPr/>
          </p:nvSpPr>
          <p:spPr>
            <a:xfrm>
              <a:off x="870120" y="233640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70120" y="257292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70120" y="281124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70120" y="304776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70120" y="3283920"/>
              <a:ext cx="6982920" cy="238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70120" y="2103480"/>
              <a:ext cx="6984360" cy="236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Kategorie</a:t>
              </a: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      Titel                              Autor </a:t>
              </a: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CH" sz="1400" spc="-1" strike="noStrike">
                  <a:solidFill>
                    <a:srgbClr val="000000"/>
                  </a:solidFill>
                  <a:latin typeface="Arial"/>
                </a:rPr>
                <a:t>        Änderungsd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70120" y="352080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70120" y="375732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70120" y="399204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70120" y="423000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70120" y="4468320"/>
              <a:ext cx="6982920" cy="238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70120" y="470484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70120" y="493992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70120" y="5178240"/>
              <a:ext cx="6982920" cy="237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556000" y="2349360"/>
            <a:ext cx="144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282920" y="2349360"/>
            <a:ext cx="180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794200" y="2349360"/>
            <a:ext cx="180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3778200" y="1628640"/>
            <a:ext cx="73080" cy="73080"/>
            <a:chOff x="3778200" y="1628640"/>
            <a:chExt cx="73080" cy="73080"/>
          </a:xfrm>
        </p:grpSpPr>
        <p:sp>
          <p:nvSpPr>
            <p:cNvPr id="698" name=""/>
            <p:cNvSpPr/>
            <p:nvPr/>
          </p:nvSpPr>
          <p:spPr>
            <a:xfrm>
              <a:off x="3778200" y="1628640"/>
              <a:ext cx="730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3778200" y="1628640"/>
              <a:ext cx="712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4836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bre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162864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2924280"/>
            <a:ext cx="1584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n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3643200"/>
            <a:ext cx="1584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8000" y="2924280"/>
            <a:ext cx="158436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88000" y="3643200"/>
            <a:ext cx="158436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87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234936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5564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14836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Öff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ö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843280" y="1557360"/>
            <a:ext cx="107928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956720" y="2205000"/>
            <a:ext cx="28728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8028000" y="5229360"/>
            <a:ext cx="144360" cy="144360"/>
          </a:xfrm>
          <a:prstGeom prst="flowChartMerg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8028000" y="2275920"/>
            <a:ext cx="144360" cy="144360"/>
          </a:xfrm>
          <a:prstGeom prst="flowChartMerg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028000" y="2565360"/>
            <a:ext cx="144360" cy="72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914560" y="1665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Tre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870120" y="233676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870120" y="257328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870120" y="281160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870120" y="304812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870120" y="328464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870120" y="2103480"/>
            <a:ext cx="6984720" cy="236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Kategorie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      Titel                              Autor 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        Änderungs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870120" y="352116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870120" y="375768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870120" y="399240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870120" y="423072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870120" y="4468680"/>
            <a:ext cx="6983280" cy="2383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870120" y="4705200"/>
            <a:ext cx="6983280" cy="2383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870120" y="494028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870120" y="517860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556000" y="2349360"/>
            <a:ext cx="144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282920" y="2349360"/>
            <a:ext cx="180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794200" y="2349360"/>
            <a:ext cx="180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3779640" y="1628640"/>
            <a:ext cx="73080" cy="73080"/>
            <a:chOff x="3779640" y="1628640"/>
            <a:chExt cx="73080" cy="73080"/>
          </a:xfrm>
        </p:grpSpPr>
        <p:sp>
          <p:nvSpPr>
            <p:cNvPr id="741" name=""/>
            <p:cNvSpPr/>
            <p:nvPr/>
          </p:nvSpPr>
          <p:spPr>
            <a:xfrm>
              <a:off x="3780000" y="1628640"/>
              <a:ext cx="727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3779640" y="1628640"/>
              <a:ext cx="709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5564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14836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Öff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ö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843280" y="1557360"/>
            <a:ext cx="107928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956720" y="2205000"/>
            <a:ext cx="28728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8028000" y="5229360"/>
            <a:ext cx="144360" cy="144360"/>
          </a:xfrm>
          <a:prstGeom prst="flowChartMerg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8028000" y="2275920"/>
            <a:ext cx="144360" cy="144360"/>
          </a:xfrm>
          <a:prstGeom prst="flowChartMerg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8028000" y="2565360"/>
            <a:ext cx="144360" cy="72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914560" y="1665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Tre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70120" y="233676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870120" y="257328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870120" y="281160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870120" y="304812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70120" y="328464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870120" y="2103480"/>
            <a:ext cx="6984720" cy="236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Kategorie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      Titel                              Autor 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        Änderungs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870120" y="352116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70120" y="375768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70120" y="399240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70120" y="423072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70120" y="4468680"/>
            <a:ext cx="6983280" cy="2383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870120" y="4705200"/>
            <a:ext cx="6983280" cy="2383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70120" y="494028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70120" y="517860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56000" y="2349360"/>
            <a:ext cx="144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282920" y="2349360"/>
            <a:ext cx="180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794200" y="2349360"/>
            <a:ext cx="180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2771640" y="2997360"/>
            <a:ext cx="3990960" cy="135252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>
            <a:off x="3419640" y="3429000"/>
            <a:ext cx="30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len diese Elemente gelöscht werd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3778200" y="1628640"/>
            <a:ext cx="73080" cy="73080"/>
            <a:chOff x="3778200" y="1628640"/>
            <a:chExt cx="73080" cy="73080"/>
          </a:xfrm>
        </p:grpSpPr>
        <p:sp>
          <p:nvSpPr>
            <p:cNvPr id="786" name=""/>
            <p:cNvSpPr/>
            <p:nvPr/>
          </p:nvSpPr>
          <p:spPr>
            <a:xfrm>
              <a:off x="3778200" y="1628640"/>
              <a:ext cx="730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3778200" y="1628640"/>
              <a:ext cx="712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75564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14836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Öff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ö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843280" y="1557360"/>
            <a:ext cx="107928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956720" y="2205000"/>
            <a:ext cx="28728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028000" y="5229360"/>
            <a:ext cx="144360" cy="144360"/>
          </a:xfrm>
          <a:prstGeom prst="flowChartMerg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8028000" y="2275920"/>
            <a:ext cx="144360" cy="144360"/>
          </a:xfrm>
          <a:prstGeom prst="flowChartMerg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28000" y="2565360"/>
            <a:ext cx="144360" cy="72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914560" y="1665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Tre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70120" y="233676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870120" y="257328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870120" y="281160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70120" y="304812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870120" y="328464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870120" y="2103480"/>
            <a:ext cx="6984720" cy="236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Kategorie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      Titel                              Autor 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        Änderungs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870120" y="352116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870120" y="375768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870120" y="399240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870120" y="423072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870120" y="446868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870120" y="470520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870120" y="494028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870120" y="517860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556000" y="2349360"/>
            <a:ext cx="144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282920" y="2349360"/>
            <a:ext cx="180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794200" y="2349360"/>
            <a:ext cx="180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3319560" y="3119400"/>
            <a:ext cx="2361960" cy="120024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3852720" y="3502080"/>
            <a:ext cx="1727280" cy="45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 Elemente wurden gelös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348000" y="3141720"/>
            <a:ext cx="208908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izverwalt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3778200" y="1628640"/>
            <a:ext cx="73080" cy="73080"/>
            <a:chOff x="3778200" y="1628640"/>
            <a:chExt cx="73080" cy="73080"/>
          </a:xfrm>
        </p:grpSpPr>
        <p:sp>
          <p:nvSpPr>
            <p:cNvPr id="832" name=""/>
            <p:cNvSpPr/>
            <p:nvPr/>
          </p:nvSpPr>
          <p:spPr>
            <a:xfrm>
              <a:off x="3778200" y="1628640"/>
              <a:ext cx="730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3778200" y="1628640"/>
              <a:ext cx="712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"/>
          <p:cNvGrpSpPr/>
          <p:nvPr/>
        </p:nvGrpSpPr>
        <p:grpSpPr>
          <a:xfrm>
            <a:off x="539640" y="476280"/>
            <a:ext cx="4032360" cy="1881360"/>
            <a:chOff x="539640" y="476280"/>
            <a:chExt cx="4032360" cy="1881360"/>
          </a:xfrm>
        </p:grpSpPr>
        <p:sp>
          <p:nvSpPr>
            <p:cNvPr id="835" name=""/>
            <p:cNvSpPr/>
            <p:nvPr/>
          </p:nvSpPr>
          <p:spPr>
            <a:xfrm>
              <a:off x="539640" y="476280"/>
              <a:ext cx="2016000" cy="18734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39640" y="90828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10920" y="54936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u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rot="16200000">
              <a:off x="2267640" y="621720"/>
              <a:ext cx="217440" cy="216000"/>
            </a:xfrm>
            <a:prstGeom prst="flowChartMerg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39640" y="126864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98320" y="92088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ch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39640" y="162900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10920" y="126864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uck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39640" y="198936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10920" y="162900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10920" y="198936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end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555640" y="476280"/>
              <a:ext cx="2016360" cy="792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555640" y="54936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ti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555640" y="90828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555640" y="90828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ategor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2843280" y="2852640"/>
            <a:ext cx="5041800" cy="2376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372360" y="2852640"/>
            <a:ext cx="151272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87708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738036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502400" y="285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32000" y="3860640"/>
            <a:ext cx="4248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132000" y="342900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292720" y="4724280"/>
            <a:ext cx="2087640" cy="289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ichern unt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5564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14836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Öff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ö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890800" y="1557360"/>
            <a:ext cx="107964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956720" y="2205000"/>
            <a:ext cx="28728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8028000" y="5229360"/>
            <a:ext cx="144360" cy="144360"/>
          </a:xfrm>
          <a:prstGeom prst="flowChartMerg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8028000" y="2275920"/>
            <a:ext cx="144360" cy="144360"/>
          </a:xfrm>
          <a:prstGeom prst="flowChartMerg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028000" y="2565360"/>
            <a:ext cx="144360" cy="72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914560" y="1665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Tre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870120" y="233676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870120" y="257328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870120" y="281160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870120" y="304812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870120" y="328464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870120" y="2103480"/>
            <a:ext cx="6984720" cy="236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Kategorie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      Titel                              Autor 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        Änderungs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70120" y="352116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70120" y="375768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70120" y="399240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870120" y="423072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870120" y="446868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870120" y="470520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870120" y="494028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870120" y="5178600"/>
            <a:ext cx="6983280" cy="2379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556000" y="2349360"/>
            <a:ext cx="144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282920" y="2349360"/>
            <a:ext cx="180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794200" y="2349360"/>
            <a:ext cx="180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755640" y="1197000"/>
            <a:ext cx="4032360" cy="1881360"/>
            <a:chOff x="755640" y="1197000"/>
            <a:chExt cx="4032360" cy="1881360"/>
          </a:xfrm>
        </p:grpSpPr>
        <p:sp>
          <p:nvSpPr>
            <p:cNvPr id="899" name=""/>
            <p:cNvSpPr/>
            <p:nvPr/>
          </p:nvSpPr>
          <p:spPr>
            <a:xfrm>
              <a:off x="755640" y="1197000"/>
              <a:ext cx="2016000" cy="18734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55640" y="162900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26920" y="127008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u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rot="16200000">
              <a:off x="2483640" y="1342440"/>
              <a:ext cx="217440" cy="216000"/>
            </a:xfrm>
            <a:prstGeom prst="flowChartMerg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55640" y="198936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14320" y="164160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ch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55640" y="234972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26920" y="198936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uck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55640" y="271008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26920" y="234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26920" y="271008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end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771640" y="1197000"/>
              <a:ext cx="2016360" cy="792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771640" y="127008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ti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71640" y="1629000"/>
              <a:ext cx="20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771640" y="162900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ategor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4" name=""/>
          <p:cNvSpPr/>
          <p:nvPr/>
        </p:nvSpPr>
        <p:spPr>
          <a:xfrm>
            <a:off x="755640" y="2276640"/>
            <a:ext cx="129528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75564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14836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Öff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ö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890800" y="1557360"/>
            <a:ext cx="107964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956720" y="2205000"/>
            <a:ext cx="28728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8028000" y="5229360"/>
            <a:ext cx="144360" cy="144360"/>
          </a:xfrm>
          <a:prstGeom prst="flowChartMerg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8028000" y="2275920"/>
            <a:ext cx="144360" cy="144360"/>
          </a:xfrm>
          <a:prstGeom prst="flowChartMerg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028000" y="2565360"/>
            <a:ext cx="144360" cy="72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914560" y="1665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870120" y="233676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870120" y="257328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870120" y="281160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870120" y="304812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870120" y="328464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870120" y="2103480"/>
            <a:ext cx="6984720" cy="236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Kategorie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      Titel                              Autor 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        Änderungs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870120" y="352116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870120" y="375768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870120" y="399240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870120" y="423072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870120" y="446868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870120" y="470520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870120" y="4940280"/>
            <a:ext cx="6983280" cy="23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870120" y="5178600"/>
            <a:ext cx="6983280" cy="23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556000" y="2349360"/>
            <a:ext cx="144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282920" y="2349360"/>
            <a:ext cx="180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794200" y="2349360"/>
            <a:ext cx="1800" cy="304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bre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234936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162864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32000" y="2924280"/>
            <a:ext cx="1584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n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32000" y="3643200"/>
            <a:ext cx="1584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88000" y="2924280"/>
            <a:ext cx="158436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88000" y="3643200"/>
            <a:ext cx="158436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1197000"/>
            <a:ext cx="201600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16286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12700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2133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1640" y="1197000"/>
            <a:ext cx="2016360" cy="792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12700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ut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71640" y="1628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71640" y="1628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17002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21034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206064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utzerna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08160" y="256536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Mail Adres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38400" y="306864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tes Passwo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352584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ues Passwor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533760" y="2108160"/>
            <a:ext cx="2262240" cy="2255760"/>
            <a:chOff x="3533760" y="2108160"/>
            <a:chExt cx="2262240" cy="2255760"/>
          </a:xfrm>
        </p:grpSpPr>
        <p:sp>
          <p:nvSpPr>
            <p:cNvPr id="104" name=""/>
            <p:cNvSpPr/>
            <p:nvPr/>
          </p:nvSpPr>
          <p:spPr>
            <a:xfrm>
              <a:off x="3533760" y="2108160"/>
              <a:ext cx="223200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51040" y="2611440"/>
              <a:ext cx="223200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58960" y="3103560"/>
              <a:ext cx="223236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64000" y="3573360"/>
              <a:ext cx="223200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64000" y="4076640"/>
              <a:ext cx="223200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971640" y="4076640"/>
            <a:ext cx="23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wort wiederhol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ich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557360"/>
            <a:ext cx="107964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42920" y="2084400"/>
            <a:ext cx="1441440" cy="623880"/>
            <a:chOff x="1042920" y="2084400"/>
            <a:chExt cx="1441440" cy="623880"/>
          </a:xfrm>
        </p:grpSpPr>
        <p:sp>
          <p:nvSpPr>
            <p:cNvPr id="125" name=""/>
            <p:cNvSpPr/>
            <p:nvPr/>
          </p:nvSpPr>
          <p:spPr>
            <a:xfrm>
              <a:off x="1042920" y="2421000"/>
              <a:ext cx="144144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60520" y="208440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t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843280" y="2421000"/>
            <a:ext cx="1441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7640" y="20890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chwö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6360" y="2421000"/>
            <a:ext cx="1441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11920" y="2463840"/>
            <a:ext cx="216000" cy="21600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16440" y="20844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42920" y="3789360"/>
            <a:ext cx="705816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75120" y="349092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z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32720" y="242100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dd.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3068640"/>
            <a:ext cx="70581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83160" y="2755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 Pf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45120" y="560376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ich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59640" y="560376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16720" y="2276640"/>
            <a:ext cx="1871640" cy="6476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1628640"/>
            <a:ext cx="1079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59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59280" y="16286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5280" y="1557360"/>
            <a:ext cx="122400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2133720"/>
            <a:ext cx="324036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000" y="2276640"/>
            <a:ext cx="19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riebs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05080" y="29242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89080" y="37162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26370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73080" y="3789360"/>
          <a:ext cx="29700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3080" y="3789360"/>
                    <a:ext cx="2970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1405080" y="327816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71640" y="2349360"/>
          <a:ext cx="190440" cy="20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2349360"/>
                    <a:ext cx="19044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057480" y="2679840"/>
          <a:ext cx="262080" cy="29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7480" y="2679840"/>
                    <a:ext cx="2620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046320" y="3032280"/>
          <a:ext cx="262080" cy="24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6320" y="3032280"/>
                    <a:ext cx="262080" cy="24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" descr=""/>
          <p:cNvPicPr/>
          <p:nvPr/>
        </p:nvPicPr>
        <p:blipFill>
          <a:blip r:embed="rId9"/>
          <a:stretch/>
        </p:blipFill>
        <p:spPr>
          <a:xfrm>
            <a:off x="3059280" y="3357720"/>
            <a:ext cx="261720" cy="2919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0"/>
          <a:stretch/>
        </p:blipFill>
        <p:spPr>
          <a:xfrm>
            <a:off x="3059280" y="2349360"/>
            <a:ext cx="261720" cy="292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14836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Hinzu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51280" y="2176560"/>
            <a:ext cx="289080" cy="33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5268960"/>
            <a:ext cx="146160" cy="147600"/>
          </a:xfrm>
          <a:prstGeom prst="flowChartMerg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922560" y="2316240"/>
            <a:ext cx="146160" cy="147600"/>
          </a:xfrm>
          <a:prstGeom prst="flowChartMerg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22560" y="2592360"/>
            <a:ext cx="146160" cy="736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5640" y="1557360"/>
            <a:ext cx="107964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042920" y="2084400"/>
            <a:ext cx="1441440" cy="623880"/>
            <a:chOff x="1042920" y="2084400"/>
            <a:chExt cx="1441440" cy="623880"/>
          </a:xfrm>
        </p:grpSpPr>
        <p:sp>
          <p:nvSpPr>
            <p:cNvPr id="195" name=""/>
            <p:cNvSpPr/>
            <p:nvPr/>
          </p:nvSpPr>
          <p:spPr>
            <a:xfrm>
              <a:off x="1042920" y="2421000"/>
              <a:ext cx="144144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60520" y="208440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t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2843280" y="2421000"/>
            <a:ext cx="1441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87640" y="20890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chwö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16360" y="2421000"/>
            <a:ext cx="1441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728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11920" y="2463840"/>
            <a:ext cx="216000" cy="21600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16440" y="20844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42920" y="3789360"/>
            <a:ext cx="705816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75120" y="349092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z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32720" y="242100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dd.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42920" y="3068640"/>
            <a:ext cx="70581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683160" y="2755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 Pf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5120" y="560376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ich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560376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32360" y="5373720"/>
            <a:ext cx="1657440" cy="6476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88000" y="242100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88000" y="23637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1557360"/>
            <a:ext cx="107964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042920" y="2084400"/>
            <a:ext cx="1441440" cy="623880"/>
            <a:chOff x="1042920" y="2084400"/>
            <a:chExt cx="1441440" cy="623880"/>
          </a:xfrm>
        </p:grpSpPr>
        <p:sp>
          <p:nvSpPr>
            <p:cNvPr id="229" name=""/>
            <p:cNvSpPr/>
            <p:nvPr/>
          </p:nvSpPr>
          <p:spPr>
            <a:xfrm>
              <a:off x="1042920" y="2421000"/>
              <a:ext cx="144144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60520" y="2084400"/>
              <a:ext cx="5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t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843280" y="2421000"/>
            <a:ext cx="1441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87640" y="20890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chwö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16360" y="2421000"/>
            <a:ext cx="14414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86728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11920" y="2463840"/>
            <a:ext cx="216000" cy="216000"/>
          </a:xfrm>
          <a:prstGeom prst="flowChartMerg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16440" y="20844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42920" y="3789360"/>
            <a:ext cx="705816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75120" y="349092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z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32720" y="242100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dd.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42920" y="3068640"/>
            <a:ext cx="70581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683160" y="2755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 Pf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218200" y="560376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ich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732720" y="560376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203640" y="3068640"/>
            <a:ext cx="2361960" cy="1200240"/>
            <a:chOff x="3203640" y="3068640"/>
            <a:chExt cx="2361960" cy="120024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3203640" y="3068640"/>
              <a:ext cx="236196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3736800" y="3451320"/>
              <a:ext cx="1726920" cy="459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e Notiz wurde gespeiche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32080" y="3090960"/>
              <a:ext cx="2088720" cy="246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tizverwaltu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55640" y="836640"/>
            <a:ext cx="7632720" cy="5184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55640" y="1197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9308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24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95672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02800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6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55640" y="1989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06640" y="1557360"/>
            <a:ext cx="1079640" cy="431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35280" y="1628640"/>
            <a:ext cx="107928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8480" y="165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63720" y="165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42920" y="2421000"/>
            <a:ext cx="144144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60520" y="20844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71640" y="2421000"/>
            <a:ext cx="144144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16360" y="2060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egor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42920" y="3789360"/>
            <a:ext cx="7058160" cy="1655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75120" y="349092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z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03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82800" y="83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2280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arb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732720" y="5589720"/>
            <a:ext cx="1368360" cy="287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ö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00000" y="83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56000" y="2852640"/>
            <a:ext cx="120780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58760" y="285264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443640" y="2421000"/>
            <a:ext cx="120816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.04.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43440" y="242100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stelldat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43640" y="2781360"/>
            <a:ext cx="120816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.09.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43440" y="278136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Änderungsdatu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56000" y="3284640"/>
            <a:ext cx="120780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5640" y="1628640"/>
            <a:ext cx="1079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58760" y="3284640"/>
            <a:ext cx="1152720" cy="287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16360" y="16286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zei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800520" y="1628640"/>
            <a:ext cx="73080" cy="73080"/>
            <a:chOff x="3800520" y="1628640"/>
            <a:chExt cx="73080" cy="73080"/>
          </a:xfrm>
        </p:grpSpPr>
        <p:sp>
          <p:nvSpPr>
            <p:cNvPr id="285" name=""/>
            <p:cNvSpPr/>
            <p:nvPr/>
          </p:nvSpPr>
          <p:spPr>
            <a:xfrm>
              <a:off x="3800520" y="1628640"/>
              <a:ext cx="730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3800520" y="1628640"/>
              <a:ext cx="712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9:20:31Z</dcterms:created>
  <dc:creator>roy.holliger</dc:creator>
  <dc:description/>
  <dc:language>en-US</dc:language>
  <cp:lastModifiedBy>kened.matici</cp:lastModifiedBy>
  <dcterms:modified xsi:type="dcterms:W3CDTF">2006-12-06T08:43:12Z</dcterms:modified>
  <cp:revision>88</cp:revision>
  <dc:subject/>
  <dc:title>GUI Beispiel 1</dc:title>
</cp:coreProperties>
</file>