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894-7F40-45D6-BE79-18256796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0B3-1714-40EB-92D7-6FDF239C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828-5F8E-47BD-935D-6148AF9B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1F5-975B-4BDC-A229-BD29F992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0DC-BD2D-4EAD-A88D-4F0E59E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B60-14E3-491C-B6FA-9CB69517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FA0-1F9F-449B-B17F-F36AAD81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14B-EE7D-42E0-A154-AA7488C4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8E6-95CB-4509-B0D8-34D77EBF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D9F-8A6B-4D2E-B9A2-275A87B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D23-6B48-4C97-9636-392DB689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D83-B151-40C6-9DAF-14253DF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547-313E-4F2E-B9B5-45D194836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1640" y="765000"/>
            <a:ext cx="3168720" cy="5256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zverw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1844640"/>
            <a:ext cx="1228680" cy="2816280"/>
            <a:chOff x="539640" y="1844640"/>
            <a:chExt cx="1228680" cy="2816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39640" y="1844640"/>
              <a:ext cx="12286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28360" y="429264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276720" y="1197000"/>
            <a:ext cx="2160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e Notiz erste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1917720"/>
            <a:ext cx="1800000" cy="34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z lös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349360"/>
            <a:ext cx="187164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iz su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2781360"/>
            <a:ext cx="2087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hende Notiz bearb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3" idx="3"/>
            <a:endCxn id="45" idx="2"/>
          </p:cNvCxnSpPr>
          <p:nvPr/>
        </p:nvCxnSpPr>
        <p:spPr>
          <a:xfrm flipV="1">
            <a:off x="1768320" y="1521000"/>
            <a:ext cx="1508760" cy="136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3" idx="3"/>
            <a:endCxn id="46" idx="2"/>
          </p:cNvCxnSpPr>
          <p:nvPr/>
        </p:nvCxnSpPr>
        <p:spPr>
          <a:xfrm flipV="1">
            <a:off x="1768320" y="2089080"/>
            <a:ext cx="1651680" cy="800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3" idx="3"/>
            <a:endCxn id="47" idx="2"/>
          </p:cNvCxnSpPr>
          <p:nvPr/>
        </p:nvCxnSpPr>
        <p:spPr>
          <a:xfrm flipV="1">
            <a:off x="1768320" y="2521080"/>
            <a:ext cx="1651680" cy="368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3" idx="3"/>
            <a:endCxn id="48" idx="2"/>
          </p:cNvCxnSpPr>
          <p:nvPr/>
        </p:nvCxnSpPr>
        <p:spPr>
          <a:xfrm>
            <a:off x="1768320" y="2889000"/>
            <a:ext cx="1580040" cy="25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" name=""/>
          <p:cNvSpPr/>
          <p:nvPr/>
        </p:nvSpPr>
        <p:spPr>
          <a:xfrm>
            <a:off x="468360" y="33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imes New Roman"/>
              </a:rPr>
              <a:t>Use Case Diagra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948360" y="1773360"/>
            <a:ext cx="1228680" cy="2815920"/>
            <a:chOff x="6948360" y="1773360"/>
            <a:chExt cx="1228680" cy="281592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6948360" y="1773360"/>
              <a:ext cx="122868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36000" y="42210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48000" y="3573360"/>
            <a:ext cx="208764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er User e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365720"/>
            <a:ext cx="2087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henden User lösc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5157720"/>
            <a:ext cx="208764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tehenden User bearbe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55" idx="1"/>
          </p:cNvCxnSpPr>
          <p:nvPr/>
        </p:nvCxnSpPr>
        <p:spPr>
          <a:xfrm>
            <a:off x="5437080" y="1521000"/>
            <a:ext cx="1511640" cy="129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6" idx="6"/>
            <a:endCxn id="55" idx="1"/>
          </p:cNvCxnSpPr>
          <p:nvPr/>
        </p:nvCxnSpPr>
        <p:spPr>
          <a:xfrm>
            <a:off x="5219640" y="2089080"/>
            <a:ext cx="1729080" cy="72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47" idx="6"/>
            <a:endCxn id="55" idx="1"/>
          </p:cNvCxnSpPr>
          <p:nvPr/>
        </p:nvCxnSpPr>
        <p:spPr>
          <a:xfrm>
            <a:off x="5291280" y="2521080"/>
            <a:ext cx="1657440" cy="297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5" idx="1"/>
            <a:endCxn id="48" idx="6"/>
          </p:cNvCxnSpPr>
          <p:nvPr/>
        </p:nvCxnSpPr>
        <p:spPr>
          <a:xfrm flipH="1">
            <a:off x="5435640" y="2817720"/>
            <a:ext cx="1513080" cy="32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6"/>
            <a:endCxn id="55" idx="1"/>
          </p:cNvCxnSpPr>
          <p:nvPr/>
        </p:nvCxnSpPr>
        <p:spPr>
          <a:xfrm flipV="1">
            <a:off x="5435640" y="2817720"/>
            <a:ext cx="1513080" cy="111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8" idx="6"/>
            <a:endCxn id="55" idx="1"/>
          </p:cNvCxnSpPr>
          <p:nvPr/>
        </p:nvCxnSpPr>
        <p:spPr>
          <a:xfrm flipV="1">
            <a:off x="5435640" y="2817720"/>
            <a:ext cx="1513080" cy="190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9" idx="6"/>
            <a:endCxn id="55" idx="1"/>
          </p:cNvCxnSpPr>
          <p:nvPr/>
        </p:nvCxnSpPr>
        <p:spPr>
          <a:xfrm flipV="1">
            <a:off x="5435640" y="2817720"/>
            <a:ext cx="1513080" cy="270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43" idx="3"/>
            <a:endCxn id="57" idx="2"/>
          </p:cNvCxnSpPr>
          <p:nvPr/>
        </p:nvCxnSpPr>
        <p:spPr>
          <a:xfrm>
            <a:off x="1768320" y="2889000"/>
            <a:ext cx="1580040" cy="104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43" idx="3"/>
            <a:endCxn id="59" idx="2"/>
          </p:cNvCxnSpPr>
          <p:nvPr/>
        </p:nvCxnSpPr>
        <p:spPr>
          <a:xfrm>
            <a:off x="1768320" y="2889000"/>
            <a:ext cx="1580040" cy="262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 flipV="1">
            <a:off x="7451640" y="191628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 A3 Fallstudi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711-812A-4A34-A5B1-C28AB264EC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9:31:37Z</dcterms:created>
  <dc:creator>fabian.schumann</dc:creator>
  <dc:description/>
  <dc:language>en-US</dc:language>
  <cp:lastModifiedBy>fabian.schumann</cp:lastModifiedBy>
  <dcterms:modified xsi:type="dcterms:W3CDTF">2006-12-04T13:57:12Z</dcterms:modified>
  <cp:revision>20</cp:revision>
  <dc:subject/>
  <dc:title>Folie 1</dc:title>
</cp:coreProperties>
</file>